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7F5E-D600-4260-81D3-813660EC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9A4C-B2D5-4453-A918-3F866751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C2F-AC99-4F3B-B9B5-B0A2F430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3CE-923D-4E28-8E82-A9F22E98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A76-AE91-4E0C-A2FE-A0279D48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3072-C453-4C33-BC24-F6DE074F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C4F-CB38-457E-BF14-6F9A8D81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927-1AF8-40CD-8A14-9E6F7F27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D3F-680E-434E-B357-3BCD7927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10D-9FD9-42FA-B3F0-8795EDAF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D8F-D7D6-4604-861B-9000336F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BAD-7B10-4C9F-97C9-75105E57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F43C-D0F8-4C8E-8478-9130174E7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Pre-Game Sh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les for 3-to-15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players alternate tur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your turn, pick a number from 1 to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may not pick a number that has already been picked b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ith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y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have a set of exactly 3 numbers that sum to 15, you wi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522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Formal Design Tools: Emergent Complexity, Emergent Narra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Brief Taxonomy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Brief Taxonomy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Brief Taxonomy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Brief Taxonomy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Brief Taxonomy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5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Brief Taxonomy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5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Dis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uncharted terr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Brief Taxonomy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Dis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uncharted terr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Ex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lf-dis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Brief Taxonomy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Dis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uncharted terr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Ex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lf-dis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Masoch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ub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rot="16200000">
            <a:off x="4533840" y="2857320"/>
            <a:ext cx="1219320" cy="144756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318240 h 1447560"/>
              <a:gd name="textAreaBottom" fmla="*/ 11293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2819520"/>
            <a:ext cx="3962160" cy="2133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3809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32767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8" idx="3"/>
            <a:endCxn id="105" idx="1"/>
          </p:cNvCxnSpPr>
          <p:nvPr/>
        </p:nvCxnSpPr>
        <p:spPr>
          <a:xfrm>
            <a:off x="3886200" y="3885840"/>
            <a:ext cx="5342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5715000" y="36576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9" idx="3"/>
            <a:endCxn id="112" idx="3"/>
          </p:cNvCxnSpPr>
          <p:nvPr/>
        </p:nvCxnSpPr>
        <p:spPr>
          <a:xfrm flipH="1">
            <a:off x="3885480" y="3733560"/>
            <a:ext cx="1981800" cy="656280"/>
          </a:xfrm>
          <a:prstGeom prst="bentConnector3">
            <a:avLst>
              <a:gd name="adj1" fmla="val -1151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1295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3" idx="3"/>
            <a:endCxn id="106" idx="1"/>
          </p:cNvCxnSpPr>
          <p:nvPr/>
        </p:nvCxnSpPr>
        <p:spPr>
          <a:xfrm>
            <a:off x="2133720" y="3352320"/>
            <a:ext cx="228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0" idx="3"/>
            <a:endCxn id="114" idx="1"/>
          </p:cNvCxnSpPr>
          <p:nvPr/>
        </p:nvCxnSpPr>
        <p:spPr>
          <a:xfrm>
            <a:off x="5866920" y="3428640"/>
            <a:ext cx="686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17" name=""/>
          <p:cNvGrpSpPr/>
          <p:nvPr/>
        </p:nvGrpSpPr>
        <p:grpSpPr>
          <a:xfrm>
            <a:off x="2590920" y="3657600"/>
            <a:ext cx="1295280" cy="914400"/>
            <a:chOff x="2590920" y="3657600"/>
            <a:chExt cx="1295280" cy="914400"/>
          </a:xfrm>
        </p:grpSpPr>
        <p:sp>
          <p:nvSpPr>
            <p:cNvPr id="118" name=""/>
            <p:cNvSpPr/>
            <p:nvPr/>
          </p:nvSpPr>
          <p:spPr>
            <a:xfrm>
              <a:off x="2590920" y="3657600"/>
              <a:ext cx="1295280" cy="9144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160" y="3840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33560" y="4297320"/>
              <a:ext cx="1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33560" y="381024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2193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Play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36576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raphics/Soun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5334120"/>
            <a:ext cx="5257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“State Machine”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1: Games as Complex Syst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514600"/>
            <a:ext cx="833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erties that cannot b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mp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red from a system’s ru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mergent Complexity (“Emergence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343400"/>
            <a:ext cx="833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ystem that possesses or exhibits emergent complex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809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lex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Pre-Game Sh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les for 3-to-15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players alternate tur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your turn, pick a number from 1 to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may not pick a number that has already been picked b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ith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y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have a set of exactly 3 numbers that sum to 15, you wi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1522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Formal Design Tools: Emergent Complexity, Emergent Narra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1600200"/>
            <a:ext cx="3124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unch Lin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867280" y="2666880"/>
            <a:ext cx="2514600" cy="2514600"/>
            <a:chOff x="5867280" y="2666880"/>
            <a:chExt cx="2514600" cy="2514600"/>
          </a:xfrm>
        </p:grpSpPr>
        <p:sp>
          <p:nvSpPr>
            <p:cNvPr id="49" name=""/>
            <p:cNvSpPr/>
            <p:nvPr/>
          </p:nvSpPr>
          <p:spPr>
            <a:xfrm>
              <a:off x="6972480" y="2971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96080" y="2971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48520" y="2971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972480" y="4343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96080" y="4343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48520" y="4343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72480" y="3657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96080" y="36572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48520" y="3657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81680" y="2666880"/>
              <a:ext cx="0" cy="25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43800" y="2666880"/>
              <a:ext cx="0" cy="25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867280" y="3504960"/>
              <a:ext cx="2514600" cy="761760"/>
              <a:chOff x="5867280" y="3504960"/>
              <a:chExt cx="2514600" cy="761760"/>
            </a:xfrm>
          </p:grpSpPr>
          <p:sp>
            <p:nvSpPr>
              <p:cNvPr id="61" name=""/>
              <p:cNvSpPr/>
              <p:nvPr/>
            </p:nvSpPr>
            <p:spPr>
              <a:xfrm>
                <a:off x="5867280" y="4266720"/>
                <a:ext cx="2514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867280" y="3504960"/>
                <a:ext cx="2514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ample: Conway’s Game of Lif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u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id of cells, each cell is either “alive” or “dea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cell has 8 neighb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 each cell’s live neighb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or 3: Stay al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ctly 3: Become al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5560" y="5894280"/>
            <a:ext cx="49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is is called a “Cellular Automaton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way’s Life is a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Complex Syste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Patterns: Block, Honeyco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Patterns: Blin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ing Patterns: Gli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terns of Patterns: Beehive, Glider G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105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rules are inadequate to describe the system’s 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 in G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ss: Attack &amp; Defense, Discovered Check, Knight Fork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: Eyes, Life &amp; Death patterns, Tesuj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ic: The Gathering: Card Combos, Deck Arche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Quest: “Trains,” “Kiting,” “Kill-steali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: Aesthetics of Emerg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at makes Emergent Complexity “fun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e 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Discove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mergent properties of the system form an explorable sp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plexity means more sp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e 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hallen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ame’s emergent properties form its “strategic vocabular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scenarios and obstacles can eme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e 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arra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 there I wa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e 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arra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rrative emerges from game ev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xity gives you infinite monkey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ame’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antas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meaning to the narra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t vs. Embedded Narra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merg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arrative occurs as short vignet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mbedd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Authored) narrative works well for major story ar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arrative in Thie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bedded narra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es as a “frame” for interac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to short, discrete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n-interac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lso consider: letter-boxing of Zelda 64 cutscen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the actual gameplay, narrative is largely emerg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mal Design Too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980720" y="2057040"/>
            <a:ext cx="54104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mergent Complexity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mergent Narrat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41240" y="3809880"/>
            <a:ext cx="22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rant by MAH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7160" y="609588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DC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e 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Fantas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ent properties don’t necessarily support the metaph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dictions are common, creating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bsurd fantas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murphytitle" descr=""/>
          <p:cNvPicPr/>
          <p:nvPr/>
        </p:nvPicPr>
        <p:blipFill>
          <a:blip r:embed="rId1"/>
          <a:stretch/>
        </p:blipFill>
        <p:spPr>
          <a:xfrm>
            <a:off x="3201840" y="304920"/>
            <a:ext cx="2743200" cy="914400"/>
          </a:xfrm>
          <a:prstGeom prst="rect">
            <a:avLst/>
          </a:prstGeom>
          <a:ln w="0">
            <a:noFill/>
          </a:ln>
        </p:spPr>
      </p:pic>
      <p:pic>
        <p:nvPicPr>
          <p:cNvPr id="154" name="0211" descr=""/>
          <p:cNvPicPr/>
          <p:nvPr/>
        </p:nvPicPr>
        <p:blipFill>
          <a:blip r:embed="rId2"/>
          <a:stretch/>
        </p:blipFill>
        <p:spPr>
          <a:xfrm>
            <a:off x="622440" y="1447920"/>
            <a:ext cx="3773520" cy="4572000"/>
          </a:xfrm>
          <a:prstGeom prst="rect">
            <a:avLst/>
          </a:prstGeom>
          <a:ln w="0">
            <a:noFill/>
          </a:ln>
        </p:spPr>
      </p:pic>
      <p:pic>
        <p:nvPicPr>
          <p:cNvPr id="155" name="0303" descr=""/>
          <p:cNvPicPr/>
          <p:nvPr/>
        </p:nvPicPr>
        <p:blipFill>
          <a:blip r:embed="rId3"/>
          <a:stretch/>
        </p:blipFill>
        <p:spPr>
          <a:xfrm>
            <a:off x="4800600" y="1447920"/>
            <a:ext cx="3757680" cy="4572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09480" y="6172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© Steve Jackson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20640" y="617220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sjgames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urd Fantasy Trouble Sp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-Fi/Fantasy simu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ulation reveals flaws &amp; sid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rts S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ergent properties must be replicated faithfu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Perils of Emerg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generate strategies (“exploits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ntended feedback syst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ly s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ly uns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here’s no substitute for playtest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type ear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ytest 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ck 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ence can crea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isco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alle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arr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antasy (tric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1981080"/>
            <a:ext cx="3276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xamin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ns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ellow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soch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3: Models of Complex G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w do we make these thing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on Character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 elements are simp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ch inte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 state has many element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dom initial condi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exity does not mean lots of ru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ogeneous vs. Heterogeneo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ogeneous: Many similar elements (Lif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terogeneous: Many distinct elements (Magic: The Gather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trum, not a Dichot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modern games are heterogene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58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reating Complex Systems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Heterogeneous Appro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multiple syst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individual systems simp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interactions (“cross-terms”) between syst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2800" y="46735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ocus on system interaction, not system complex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What is the most over-used word in all of game desig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ic: Creature Combat, Card Econ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vilization: Unit Movement/Combat, City Sim, Diplom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ef: AI behavior, Sound Propagation, Comb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105520"/>
            <a:ext cx="53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dividual systems are mini-gam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ut don’t stand on their ow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ered Syste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few solid “foundation” syst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second tier of cross-term-inducing featu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ndation remains fixed, while the second tier grows over development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ef: Lockpi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ic: Enchan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vilization: Te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ered Syste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ndation systems will survive the  development proc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bles incremental development of second ti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dmarks for system explo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stem Interactions: Feed-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system’s state directly controls the rules or parameters of ano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ic: Card Economy feeds into Comb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pha Centauri: Diplomacy feeds into Econom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-directional Feed-in is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Feedbac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ble: Resist change (Thermost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stable: Amplify change (Snowball effec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stem Interactions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ource Exchan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Resources serve as a medium for system interactio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ource Exchange: Compet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systems consume the same re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agi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: Spells &amp; Creatures compete for ma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ource Exchange: Transmi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system produces a resources that another consu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iviliza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: Cities produce units; Combat consumes them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ource Exchange: Transfor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ystem converts one resource into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arcraft: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Repairs turn raw materials into hit points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ources ar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can be created b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ation “arbitrag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xploits can manifest as “energy spikes.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What is the most over-used word in all of game desig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1148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1480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6000" spc="-1" strike="noStrike">
                <a:solidFill>
                  <a:srgbClr val="ffffff"/>
                </a:solidFill>
                <a:latin typeface="Times New Roman"/>
              </a:rPr>
              <a:t>Fun”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venting Energy Spik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in time constraint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stand and tune your exchange ra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t’s OK to grow, just don’t grow too quick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ence can create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alle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isco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arr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ence can thwar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antas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ross-terms between simple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ed-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 ex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Inf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slides: www2.lglass.com/~mah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email: mahk@lglas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xification” by John Ca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BN: 0-06-16888-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32: psoup.math.wisc.edu/Life32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Down with “Fun!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22120" y="207648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hort list of “fun” gam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9600" y="2819520"/>
            <a:ext cx="311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rophob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Qu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 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cra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Don’t Know J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2819520"/>
            <a:ext cx="223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t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pha Centa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eC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760" y="5257800"/>
            <a:ext cx="674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hen trying to make good games, “fun” on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ets you so f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00200" y="19051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Rules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Models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, and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mal Design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l-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(i.e. cross-gen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y-to-day ut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l-understood application con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nses, not value sta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cture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ew more words on “Fu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s as Complex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s of Emergent Complex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ergent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ng and Managing Emergent Complex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ly Taxonom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Brief Taxonomy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21:10:44Z</dcterms:created>
  <dc:creator>Marc "MAHK" LeBlanc</dc:creator>
  <dc:description/>
  <dc:language>en-US</dc:language>
  <cp:lastModifiedBy>tech</cp:lastModifiedBy>
  <dcterms:modified xsi:type="dcterms:W3CDTF">2000-03-09T20:14:39Z</dcterms:modified>
  <cp:revision>25</cp:revision>
  <dc:subject/>
  <dc:title>Formal Design Tools</dc:title>
</cp:coreProperties>
</file>