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CAAA6-0A06-4A2F-B552-E5038A9C4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C4611-A339-4469-AF0F-DB846374A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2BF57-327F-426E-A0B4-D08826986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61D5F-DA2A-4F25-AB68-D9076935C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9C144-6339-4077-9BCA-0B16C0A75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D243B-9E51-4D9F-8A29-9A37D8E69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74269-8A0F-4A4D-8B13-34616573D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3C4F8-4EC1-48E6-B7CB-1AF356108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23081-A5DE-4DAE-A747-9589F2001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DD07B-D939-4C21-A082-74E84F273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BDBCF-AFD5-4708-B5FC-18460D4C4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D6BF8-6305-4ADA-A013-949E10962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7B81E-C774-4E06-B2E9-E29C28C8698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ormal Design Tool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752480"/>
            <a:ext cx="6400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Feedback Systems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nd the Dramatic Structure of Competi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444480" y="4419720"/>
            <a:ext cx="225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A rant by MAH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7160" y="6095880"/>
            <a:ext cx="150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DC 199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ositive Feedback Systems: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rive their output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away from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the “target” value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eft to their own devices, will drive their output to infinit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re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unstabl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687240" y="4038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Times New Roman"/>
              </a:rPr>
              <a:t>room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=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F(T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Times New Roman"/>
              </a:rPr>
              <a:t>room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– T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Times New Roman"/>
              </a:rPr>
              <a:t>thermostat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724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n Other Words: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7240" y="18288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Times New Roman"/>
              </a:rPr>
              <a:t>room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=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–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F(T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Times New Roman"/>
              </a:rPr>
              <a:t>room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– T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Times New Roman"/>
              </a:rPr>
              <a:t>thermostat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064760" y="3200400"/>
            <a:ext cx="101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r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471040" y="5943600"/>
            <a:ext cx="420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(x) is any increasing functio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eedback Systems in Gam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1981440" cy="160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me Sta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943600" y="2514600"/>
            <a:ext cx="25146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oring Function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943600" y="4800600"/>
            <a:ext cx="259092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oll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143000" y="4724280"/>
            <a:ext cx="2590920" cy="129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me Mechanic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352680" y="2743200"/>
            <a:ext cx="25146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3885840" y="5181480"/>
            <a:ext cx="19810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238880" y="3352680"/>
            <a:ext cx="0" cy="129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" y="2819520"/>
            <a:ext cx="533520" cy="1981080"/>
          </a:xfrm>
          <a:custGeom>
            <a:avLst/>
            <a:gdLst/>
            <a:ahLst/>
            <a:rect l="l" t="t" r="r" b="b"/>
            <a:pathLst>
              <a:path w="448" h="1680">
                <a:moveTo>
                  <a:pt x="304" y="1680"/>
                </a:moveTo>
                <a:cubicBezTo>
                  <a:pt x="168" y="1416"/>
                  <a:pt x="32" y="1152"/>
                  <a:pt x="16" y="912"/>
                </a:cubicBezTo>
                <a:cubicBezTo>
                  <a:pt x="0" y="672"/>
                  <a:pt x="136" y="392"/>
                  <a:pt x="208" y="240"/>
                </a:cubicBezTo>
                <a:cubicBezTo>
                  <a:pt x="280" y="88"/>
                  <a:pt x="364" y="44"/>
                  <a:pt x="448" y="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xample: Negative Feedback Basketbal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0880" y="2819520"/>
            <a:ext cx="83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r every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points of difference in the two teams’ scores, the losing team may have an extra player in play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Laptop Motivation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09480" y="1981080"/>
            <a:ext cx="800100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s is the point in my talk where my laptop crashed at the GDC in march.  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round of encouraging applause, please, to my laptop, for making it this far.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ositive Feedback Basketbal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80880" y="2133720"/>
            <a:ext cx="83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r every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points of difference in the two teams’ scores, th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inning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eam may have an extra player in play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724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n Other Words: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295280" y="2209680"/>
            <a:ext cx="6629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Times New Roman"/>
              </a:rPr>
              <a:t>me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=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–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F(S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Times New Roman"/>
              </a:rPr>
              <a:t>me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–   S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Times New Roman"/>
              </a:rPr>
              <a:t>you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752480" y="5105520"/>
            <a:ext cx="572148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(x) is any increasing functio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m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and S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you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are the two teams’ scor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64760" y="2971800"/>
            <a:ext cx="101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r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295280" y="3657600"/>
            <a:ext cx="6629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Times New Roman"/>
              </a:rPr>
              <a:t>me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=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F(S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Times New Roman"/>
              </a:rPr>
              <a:t>me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–   S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Times New Roman"/>
              </a:rPr>
              <a:t>you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eedback Rule #1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gative feedback stabilizes the gam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sitive feedback destabilizes the gam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ability is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game balanc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eedback Rule #2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gative feedback forgives the los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sitive feedback rewards the winner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eedback Rule #3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gative feedback can prolong the gam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sitive feedback can end i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Game Design Fortune Cooki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imless wandering is the enemy of fun.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rdship is not the same as gameplay.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reate compelling illusions, not realistic simulations.”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now your roots.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50,000,000 Elvis fans can’t be wrong.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eedback Rule #4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sitive feedback magnifies early success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gative feedback magnifies late on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e Most Common Example: 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e Intrinsic Negative Feedback in Many-Player Gam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429200" y="3809880"/>
            <a:ext cx="644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Everybody gang up on the scourge!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ther Feedback Exampl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attle Arena Toshinden: desperation moves (negativ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ivilization: exponential growth (positiv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ing Commander: system damage (positiv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ne More Example: An Auto Racing Game with Gu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ront-mounted guns: negative feedbac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ar-mounted guns: positive feedbac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eedback Rule #5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62120" y="17521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eedback systems can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emerg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from your game systems “by accident.”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 sure to identify the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38098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ny-player g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mul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eedback Rule #6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en two different feedback systems are in conflict, one will overwhelm the oth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2120" y="388620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re’s no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mall biases mat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eedback Rule #7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layers are stabilizing influenc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" y="2971800"/>
            <a:ext cx="784872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player who is ahead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andbag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ets laz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s too many op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eedback Rule #8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eedback systems can take control away from the player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eedback Summar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eedback systems exist in gam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gative feedback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stabilize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the game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sitive feedback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destabilize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the game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me feedback systems are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emergen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oth positive and negative feedback are useful to game designer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712480" y="5715000"/>
            <a:ext cx="263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On to Part  2.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art 2: Dramatic Structur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609480" y="1905120"/>
          <a:ext cx="7772400" cy="4394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905120"/>
                    <a:ext cx="7772400" cy="439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The Alternative: Formal Design Tool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84872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ules, Models, Techniqu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ll-defin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bstract (i.e. cross-genr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ay-to-day util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ll-understood application contex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enses, not value statem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ramatic Structur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rmal tool for narrative design.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petition can have dramatic structur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me games have both competition &amp; narrativ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ramatic Structure In Gam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reates a sense of “wholeness.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s a larger context for small decisio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reates games that make good stor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hat Creates Dramatic Tension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petition is Conflic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ncertainty: The winner is unknow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evitability: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solution is imminen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game is moving forwar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533520" y="24379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Dramatic tension does not guarantee dramatic structure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ramatic Structure Exampl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asketball (organized vs. pick-up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ock creates inevitabil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gic: The Gather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ck, Mana create inevitabilit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athmat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mall-scale drama in each confront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 overall structu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reating Inevitabilit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pproach the end of the game through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non-reversible proce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non-renewable resourc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reating Uncertaint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want the game to feel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clos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us, negative feedback systems can induce uncertaint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ther stabilizing forces also work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iming the Climax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o Early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o much time spent knowing who will wi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layers become spectator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o Lat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d of game takes the players by surpris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moment of realization is necessar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iming the Climax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 games, the climax comes relatively late, because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gain, competition is conflic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 does in narrativ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me resolution occurs after the game end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esolving Dramatic Tens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intain the same sense of inevitability (i.e. the same non-reversible process.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place uncertainty with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certainty,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rough de-stabilizing forces (e.g. positive feedback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Lecture Overview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text: Competi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eedback System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fini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sitive &amp; Negative Feedbac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pplication to G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ramatic Structur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fini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pplication to G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rama-Creation Techniqu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xample: Basketbal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gative feedback moves climax lat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sitive feedback moves it earlier.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xample: StarCraf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ncertain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g of Wa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evitability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nite raw materia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ime is a resour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ncertainty erodes over tim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ponential growth eventually destabiliz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xample: Tita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tail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uild &amp; Conquer” ga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ghting costs units (attrition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inning fights earns units &amp; pow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ttrition remains constant, but rewards increas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xample: Tita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rly gam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sts outweigh rewar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able &amp; uncerta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ate gam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wards outweigh cos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stable &amp; certa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ak sense of inevitability.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xample: FireTeam Deathmatch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tail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athmatch with team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hase 1: Infinite resurrection, earn liv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hase 2: Finite resurrection, spend liv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130840" y="5562720"/>
            <a:ext cx="403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Phase 2 has positive feedback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xample: FireTeam Deathmatch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evitabil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ime limi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ncertain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hase 1 is stable &amp; uncerta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hase 2 is unstable &amp; certa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hase 1 is longer than Phase 2; late clima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xample: You Don’t Know Jack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ncertain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Questions increase in value over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igh-Scoring bonus rounds late in the ga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evitability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xed game lengt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n easily climax too ear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andom feedback elem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 Newtonian Metaphor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ramatic Tension = Potential Energ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abilizing/Destabilizing Forces = For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rward Progress = Dista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ramatic Structure Summar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ames can benefit from dramatic structur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n-reversible processes create inevitabilit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abilizing forces create uncertaint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solve the tension you creat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Questions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hk@lglass.co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ww2.lglass.com/~mah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09480" y="3581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hameless Plug: GDC 2000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85800" y="4648320"/>
            <a:ext cx="7772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rmal Design Tool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mergent Complexity, Emergent Narrati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bligatory Disclaimer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s is really pointy-heade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re will be math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 LaPlace transforms; No game theor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s may be review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eave now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art 1: Feedback System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061640" y="1066680"/>
            <a:ext cx="720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A feedback system monitors and regulates its own outpu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1600200"/>
            <a:ext cx="1981440" cy="160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352680" y="2743200"/>
            <a:ext cx="25146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H="1" flipV="1">
            <a:off x="3124080" y="4800240"/>
            <a:ext cx="274320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3124080" y="5257800"/>
            <a:ext cx="274320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400800" y="3733920"/>
            <a:ext cx="0" cy="99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191840" y="4495680"/>
            <a:ext cx="105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oo Col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192200" y="5410080"/>
            <a:ext cx="95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oo Ho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10120" y="6248520"/>
            <a:ext cx="395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xample: An Ideal Thermost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3" name="therm" descr=""/>
          <p:cNvPicPr/>
          <p:nvPr/>
        </p:nvPicPr>
        <p:blipFill>
          <a:blip r:embed="rId1"/>
          <a:stretch/>
        </p:blipFill>
        <p:spPr>
          <a:xfrm>
            <a:off x="5943600" y="1752480"/>
            <a:ext cx="857160" cy="1828800"/>
          </a:xfrm>
          <a:prstGeom prst="rect">
            <a:avLst/>
          </a:prstGeom>
          <a:ln w="0">
            <a:noFill/>
          </a:ln>
        </p:spPr>
      </p:pic>
      <p:pic>
        <p:nvPicPr>
          <p:cNvPr id="64" name="control" descr=""/>
          <p:cNvPicPr/>
          <p:nvPr/>
        </p:nvPicPr>
        <p:blipFill>
          <a:blip r:embed="rId2"/>
          <a:stretch/>
        </p:blipFill>
        <p:spPr>
          <a:xfrm>
            <a:off x="5943600" y="4876920"/>
            <a:ext cx="1587600" cy="558720"/>
          </a:xfrm>
          <a:prstGeom prst="rect">
            <a:avLst/>
          </a:prstGeom>
          <a:ln w="0">
            <a:noFill/>
          </a:ln>
        </p:spPr>
      </p:pic>
      <p:pic>
        <p:nvPicPr>
          <p:cNvPr id="65" name="cooler" descr=""/>
          <p:cNvPicPr/>
          <p:nvPr/>
        </p:nvPicPr>
        <p:blipFill>
          <a:blip r:embed="rId3"/>
          <a:stretch/>
        </p:blipFill>
        <p:spPr>
          <a:xfrm>
            <a:off x="1295280" y="5181480"/>
            <a:ext cx="1727280" cy="1079640"/>
          </a:xfrm>
          <a:prstGeom prst="rect">
            <a:avLst/>
          </a:prstGeom>
          <a:ln w="0">
            <a:noFill/>
          </a:ln>
        </p:spPr>
      </p:pic>
      <p:pic>
        <p:nvPicPr>
          <p:cNvPr id="66" name="heater" descr=""/>
          <p:cNvPicPr/>
          <p:nvPr/>
        </p:nvPicPr>
        <p:blipFill>
          <a:blip r:embed="rId4"/>
          <a:stretch/>
        </p:blipFill>
        <p:spPr>
          <a:xfrm>
            <a:off x="1295280" y="3962520"/>
            <a:ext cx="1752840" cy="109224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1028880" y="3200400"/>
            <a:ext cx="266400" cy="1295280"/>
          </a:xfrm>
          <a:custGeom>
            <a:avLst/>
            <a:gdLst/>
            <a:ahLst/>
            <a:rect l="l" t="t" r="r" b="b"/>
            <a:pathLst>
              <a:path w="168" h="624">
                <a:moveTo>
                  <a:pt x="120" y="624"/>
                </a:moveTo>
                <a:cubicBezTo>
                  <a:pt x="80" y="564"/>
                  <a:pt x="40" y="504"/>
                  <a:pt x="24" y="432"/>
                </a:cubicBezTo>
                <a:cubicBezTo>
                  <a:pt x="8" y="360"/>
                  <a:pt x="0" y="264"/>
                  <a:pt x="24" y="192"/>
                </a:cubicBezTo>
                <a:cubicBezTo>
                  <a:pt x="48" y="120"/>
                  <a:pt x="108" y="60"/>
                  <a:pt x="168" y="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11360" y="2819520"/>
            <a:ext cx="583920" cy="2438280"/>
          </a:xfrm>
          <a:custGeom>
            <a:avLst/>
            <a:gdLst/>
            <a:ahLst/>
            <a:rect l="l" t="t" r="r" b="b"/>
            <a:pathLst>
              <a:path w="368" h="1536">
                <a:moveTo>
                  <a:pt x="320" y="1536"/>
                </a:moveTo>
                <a:cubicBezTo>
                  <a:pt x="192" y="1280"/>
                  <a:pt x="64" y="1024"/>
                  <a:pt x="32" y="816"/>
                </a:cubicBezTo>
                <a:cubicBezTo>
                  <a:pt x="0" y="608"/>
                  <a:pt x="72" y="424"/>
                  <a:pt x="128" y="288"/>
                </a:cubicBezTo>
                <a:cubicBezTo>
                  <a:pt x="184" y="152"/>
                  <a:pt x="276" y="76"/>
                  <a:pt x="368" y="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40360" y="2403360"/>
            <a:ext cx="184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rmome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200" y="5486400"/>
            <a:ext cx="143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troll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677240" y="624852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ol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752840" y="350532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ea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724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e Thermostat System is </a:t>
            </a:r>
            <a:br>
              <a:rPr sz="4400"/>
            </a:br>
            <a:r>
              <a:rPr b="0" i="1" lang="en-US" sz="4400" spc="-1" strike="noStrike">
                <a:solidFill>
                  <a:srgbClr val="ffff00"/>
                </a:solidFill>
                <a:latin typeface="Times New Roman"/>
              </a:rPr>
              <a:t>Negative Feedback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84872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Reduces the difference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tween the actual temperature and the target temperatur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Negative Feedback Systems: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rive their output towards a target value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eep their output within an acceptable rang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re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stabl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ositive Feedback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295280" y="1600200"/>
            <a:ext cx="1981440" cy="160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352680" y="2743200"/>
            <a:ext cx="25146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124080" y="4952880"/>
            <a:ext cx="2743200" cy="381240"/>
          </a:xfrm>
          <a:prstGeom prst="line">
            <a:avLst/>
          </a:prstGeom>
          <a:ln w="9360">
            <a:solidFill>
              <a:srgbClr val="ff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 flipV="1">
            <a:off x="3124080" y="4952520"/>
            <a:ext cx="2743200" cy="381240"/>
          </a:xfrm>
          <a:prstGeom prst="line">
            <a:avLst/>
          </a:prstGeom>
          <a:ln w="9360">
            <a:solidFill>
              <a:srgbClr val="ff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400800" y="3733920"/>
            <a:ext cx="0" cy="99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801320" y="4572000"/>
            <a:ext cx="105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oo Col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801680" y="5334120"/>
            <a:ext cx="95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oo Ho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5" name="therm" descr=""/>
          <p:cNvPicPr/>
          <p:nvPr/>
        </p:nvPicPr>
        <p:blipFill>
          <a:blip r:embed="rId1"/>
          <a:stretch/>
        </p:blipFill>
        <p:spPr>
          <a:xfrm>
            <a:off x="5943600" y="1752480"/>
            <a:ext cx="857160" cy="1828800"/>
          </a:xfrm>
          <a:prstGeom prst="rect">
            <a:avLst/>
          </a:prstGeom>
          <a:ln w="0">
            <a:noFill/>
          </a:ln>
        </p:spPr>
      </p:pic>
      <p:pic>
        <p:nvPicPr>
          <p:cNvPr id="86" name="control" descr=""/>
          <p:cNvPicPr/>
          <p:nvPr/>
        </p:nvPicPr>
        <p:blipFill>
          <a:blip r:embed="rId2"/>
          <a:stretch/>
        </p:blipFill>
        <p:spPr>
          <a:xfrm>
            <a:off x="5943600" y="4876920"/>
            <a:ext cx="1587600" cy="558720"/>
          </a:xfrm>
          <a:prstGeom prst="rect">
            <a:avLst/>
          </a:prstGeom>
          <a:ln w="0">
            <a:noFill/>
          </a:ln>
        </p:spPr>
      </p:pic>
      <p:pic>
        <p:nvPicPr>
          <p:cNvPr id="87" name="cooler" descr=""/>
          <p:cNvPicPr/>
          <p:nvPr/>
        </p:nvPicPr>
        <p:blipFill>
          <a:blip r:embed="rId3"/>
          <a:stretch/>
        </p:blipFill>
        <p:spPr>
          <a:xfrm>
            <a:off x="1295280" y="5181480"/>
            <a:ext cx="1727280" cy="1079640"/>
          </a:xfrm>
          <a:prstGeom prst="rect">
            <a:avLst/>
          </a:prstGeom>
          <a:ln w="0">
            <a:noFill/>
          </a:ln>
        </p:spPr>
      </p:pic>
      <p:pic>
        <p:nvPicPr>
          <p:cNvPr id="88" name="heater" descr=""/>
          <p:cNvPicPr/>
          <p:nvPr/>
        </p:nvPicPr>
        <p:blipFill>
          <a:blip r:embed="rId4"/>
          <a:stretch/>
        </p:blipFill>
        <p:spPr>
          <a:xfrm>
            <a:off x="1295280" y="3962520"/>
            <a:ext cx="1752840" cy="10922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1028880" y="3200400"/>
            <a:ext cx="266400" cy="1295280"/>
          </a:xfrm>
          <a:custGeom>
            <a:avLst/>
            <a:gdLst/>
            <a:ahLst/>
            <a:rect l="l" t="t" r="r" b="b"/>
            <a:pathLst>
              <a:path w="168" h="624">
                <a:moveTo>
                  <a:pt x="120" y="624"/>
                </a:moveTo>
                <a:cubicBezTo>
                  <a:pt x="80" y="564"/>
                  <a:pt x="40" y="504"/>
                  <a:pt x="24" y="432"/>
                </a:cubicBezTo>
                <a:cubicBezTo>
                  <a:pt x="8" y="360"/>
                  <a:pt x="0" y="264"/>
                  <a:pt x="24" y="192"/>
                </a:cubicBezTo>
                <a:cubicBezTo>
                  <a:pt x="48" y="120"/>
                  <a:pt x="108" y="60"/>
                  <a:pt x="168" y="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11360" y="2819520"/>
            <a:ext cx="583920" cy="2438280"/>
          </a:xfrm>
          <a:custGeom>
            <a:avLst/>
            <a:gdLst/>
            <a:ahLst/>
            <a:rect l="l" t="t" r="r" b="b"/>
            <a:pathLst>
              <a:path w="368" h="1536">
                <a:moveTo>
                  <a:pt x="320" y="1536"/>
                </a:moveTo>
                <a:cubicBezTo>
                  <a:pt x="192" y="1280"/>
                  <a:pt x="64" y="1024"/>
                  <a:pt x="32" y="816"/>
                </a:cubicBezTo>
                <a:cubicBezTo>
                  <a:pt x="0" y="608"/>
                  <a:pt x="72" y="424"/>
                  <a:pt x="128" y="288"/>
                </a:cubicBezTo>
                <a:cubicBezTo>
                  <a:pt x="184" y="152"/>
                  <a:pt x="276" y="76"/>
                  <a:pt x="368" y="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840360" y="2403360"/>
            <a:ext cx="184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rmome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200" y="5486400"/>
            <a:ext cx="143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troll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677240" y="624852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ol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752840" y="350532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ea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559320" y="6289560"/>
            <a:ext cx="459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xample: The Evil Anti-Thermost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07T03:24:56Z</dcterms:created>
  <dc:creator>Marc "MAHK" LeBlanc</dc:creator>
  <dc:description/>
  <dc:language>en-US</dc:language>
  <cp:lastModifiedBy>Marc "MAHK" LeBlanc</cp:lastModifiedBy>
  <dcterms:modified xsi:type="dcterms:W3CDTF">2000-03-15T00:15:29Z</dcterms:modified>
  <cp:revision>27</cp:revision>
  <dc:subject/>
  <dc:title>Formal Design Tools</dc:title>
</cp:coreProperties>
</file>