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A554-51C3-4007-939D-9D53D67D76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38D7-B713-4C56-8A94-1D0F8898A3D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1446-3F42-4F00-9909-779037F480D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660F-F975-4C57-88C5-6B693F9A1F9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864C-3304-4DD4-8055-3F24F4820CB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6635-A322-453A-A00E-CB0CDACF8D6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30B8-DA53-403C-95BF-1A0522E528B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DF94-A615-40B3-AC89-762AABB17B6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5D0F-9B8C-48AE-888C-E0D7A65AD6E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ED94-4B48-4C92-9A4B-6A7A994F246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6A18-CF39-4104-A905-0F93E9F0C19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13B0-FC65-4817-B7DD-6A75AF44172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ablo card g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ll monsters, get treasure, buy better stuff, kill bigger monsters, get bigger treasures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6BE0-075E-4CCF-8D2F-08E4FF87215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6E33-CBED-42A0-B9BD-9327F30967E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E369-89DC-4E80-ABBB-ACC9B1E6343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53A-0E07-428E-9A60-8EE34F32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272-79CF-48D7-AA1A-B45AC8E2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D91-0346-49FF-B63C-8E82C8C1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E4A-30AC-41CB-BD3E-1A065023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50B-E610-4E7D-B5BD-123F50F6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2FB-D8C1-4D46-95EB-E293FE9D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1C8-5E96-4864-B8A6-BFF463BD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3FA-428F-449E-BEA5-28373CEC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E41-E007-42D9-A954-E1AE4077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4AB-BE4A-482B-A552-BAC3524B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7224-5026-48D2-8364-6DC90912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02C-D4CE-4ACC-A702-A5164386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D4F7-A49B-4551-9111-681788A3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68D1-287D-41C0-8B6F-6EF98656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F3BA-D24B-49B8-BA2B-6E3E9F7F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6D01-CCFD-4B8F-B711-C6E5E751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D1AB-DAAC-44E2-A45E-73BBF34A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FEBF-C3DE-40CE-B42F-9977B967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73C8-D344-4B65-81F7-78C594B1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C8E7-4BE6-4170-A17A-5B7C7779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3646-01DD-47C3-8A8A-77C0A4D3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23F2-65DA-401C-9B92-16627D00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855E-DEB9-4266-99BF-748C336E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3B06-095F-4F09-B3D6-DE5D6B54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DBC83-32FC-4C1F-A297-352DB7E2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DB1D8-3CF3-455A-A7CC-F4AEB249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0105F-D5E0-44B4-82A4-C4CFFC97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F358-1EC4-4B85-8840-6E58623F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2D324-3C42-41FF-875F-FB1BA925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1F95-E9C3-4EBC-99F3-F1A4DECA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96765-0EE2-4036-837A-876CC19A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DE306-BBD7-4B24-A307-BF6E9ADC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D1D9-8E9A-43E2-88B8-6EE694A3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351DC-091C-41BA-A22B-8537EF07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D22DE-7664-4AA0-9683-A1A7396B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DCD13-D581-4EAD-844B-D70C7F60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GDC1011_2011_PPT_Template-Mai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C82A-4C7E-4F52-BA92-D13105452B2F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40C3-3D4E-490A-AC85-24D984B3BFC8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CC81-2092-449F-AA4D-F178A0483DCD}" type="slidenum">
              <a:rPr b="0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5144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 #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15048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e a video game using only pencils, index cards and d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it as a tool to help understand the game’s fundamental design princip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sweat the detai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uild a Paper Ver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dentify your game’s play aesthetic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oose one aesthetic element to cap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No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sweat the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try to duplicate the whole ga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focus on simulating computer fun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 at 3:1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ry to have something playable quick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tera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d two testers to other tables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until 3:4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share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did you captu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id you leave out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7430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ess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520" y="19620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y transcends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chan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13521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for understanding exist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se techniques for games in prog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is quick and che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don’t need programmers or art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5811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’t replace actual gameplay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head start and keep you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vocabulary to use when discussing your g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as a tool to educate programmers. Have them play, to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 Ga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2698920" y="2200320"/>
          <a:ext cx="35496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2200320"/>
                    <a:ext cx="35496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4"/>
          <p:cNvSpPr/>
          <p:nvPr/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xample Gam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981080" y="2266920"/>
          <a:ext cx="482616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66920"/>
                    <a:ext cx="482616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4" descr="asteroids-old"/>
          <p:cNvPicPr/>
          <p:nvPr/>
        </p:nvPicPr>
        <p:blipFill>
          <a:blip r:embed="rId1"/>
          <a:stretch/>
        </p:blipFill>
        <p:spPr>
          <a:xfrm>
            <a:off x="2666880" y="1047600"/>
            <a:ext cx="3962520" cy="3962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2665440" y="971640"/>
          <a:ext cx="40402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971640"/>
                    <a:ext cx="4040280" cy="403848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Rectangle 5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warcards"/>
          <p:cNvPicPr/>
          <p:nvPr/>
        </p:nvPicPr>
        <p:blipFill>
          <a:blip r:embed="rId1"/>
          <a:stretch/>
        </p:blipFill>
        <p:spPr>
          <a:xfrm>
            <a:off x="2590920" y="590400"/>
            <a:ext cx="419076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6" descr="civ-soren"/>
          <p:cNvPicPr/>
          <p:nvPr/>
        </p:nvPicPr>
        <p:blipFill>
          <a:blip r:embed="rId1"/>
          <a:stretch/>
        </p:blipFill>
        <p:spPr>
          <a:xfrm>
            <a:off x="1905120" y="647640"/>
            <a:ext cx="5715000" cy="4286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a digital g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paper proto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survive the change in mediu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ainstor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some games to “unplug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k into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56:43Z</dcterms:created>
  <dc:creator>Jamil Moledina</dc:creator>
  <dc:description/>
  <dc:language>en-US</dc:language>
  <cp:lastModifiedBy>MAHK</cp:lastModifiedBy>
  <cp:lastPrinted>1904-01-01T00:00:00Z</cp:lastPrinted>
  <dcterms:modified xsi:type="dcterms:W3CDTF">2011-02-13T00:24:38Z</dcterms:modified>
  <cp:revision>83</cp:revision>
  <dc:subject/>
  <dc:title>GDC 2005</dc:title>
</cp:coreProperties>
</file>