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AE5-1BF6-45F3-888B-27252A404E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1145-EFB6-414D-B854-565069882D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5C9-4CCA-4736-B553-9421D9F677C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B4A-2D07-413F-B053-1E844DF2472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8EA5-9D59-488D-A7CB-78C91644D0C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2FA-E577-4280-86CE-C81508CC38F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2A8B-30FE-4262-B471-F6C97FF3427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D6BF-587B-4DA6-816F-E61425B0D30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AC38-43D0-4E53-98B7-290BA490FF7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97B3-CD2A-4783-911B-CC8A855C59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CA72-9EFD-4D46-9C83-52E777630BED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3A1B-331E-4D65-96E5-A3BCD7F09536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84F5-B7AD-4505-A722-459E25EB21CC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4A2-729A-497D-9244-833DFAC1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6D5-1C0B-45EC-A54C-40FA8981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D2AD-EC62-4166-9B85-15FCEA0F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40E-832D-4F15-8B6B-B9E72B07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5F7B-9EC1-4538-B36B-BDDDFD1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67F-1501-431E-9ED7-2DEA75E2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1DD7-426A-4345-95D7-9AD6A08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9C51-4C20-4946-A789-74A92A2B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9E1-D7AD-483B-8454-A2F453CD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AF3E-B59B-4C03-A24B-3E3E4EA6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243-673F-4EDA-9020-7F2E52A7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39C-8AA2-49D0-9884-A1B4DCC8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761F-E5D5-4EFD-A791-C55BAD3A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FC46-C252-4CD0-818D-A211961B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2CC3-9CD2-4708-B219-AE31C4DC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DCDA-35F6-4C90-9953-2707DAED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79D8-11F3-48BD-91F1-47C990F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F152-08A2-4C0A-B195-66A42F6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8C07-99E9-4199-A8A9-E3872807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6D91-40EF-4CD6-A657-42D4F1F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8CEE-0C0D-4423-A035-49CF98D9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BA20-34F1-4225-9626-05917248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CBAA-F1E6-4AF2-978F-0BC6B698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DC40-002E-46D1-ADBD-87613A08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8503-F659-4754-BF41-150A9872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B387-99AC-4330-986F-2129D631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654F-4022-498E-8E0F-22C69817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E651-F9BF-444A-8D5C-7668A07E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EDCD1-2928-44ED-83A0-8C233A9B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9FA3D-6D0E-448A-A1EF-3CF31E2F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9A34F-49B9-4FDB-9113-308D0547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61E5-3DF1-49DB-9473-B476528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C0E48-A02A-4FB7-AD8A-FC41054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49DE4-C154-4363-A1DF-5432DD41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20127-9CEA-4347-B8B7-4B5CA6FA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818640"/>
            <a:ext cx="8076960" cy="50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6448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95800" y="20383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6448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95800" y="3471120"/>
            <a:ext cx="260064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2604-2563-4C7F-9D5E-37438D49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080" y="34711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2038320"/>
            <a:ext cx="394128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520" y="3471120"/>
            <a:ext cx="807696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4" descr="GDC1011_2011_PPT_Template-Mai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BBCB-4F92-41B0-B312-99AE193A54E4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30BD-75A4-44F3-A29A-F4DEF0026F43}" type="slidenum">
              <a:rPr b="0" lang="en-US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GDC1011_2011_PPT_Template-Content_F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indent="-17136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199880" indent="-17136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42960" indent="-17136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42960" indent="-1713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CC9-F475-46A2-8563-C8430F579787}" type="slidenum">
              <a:rPr b="0" lang="en-US" sz="2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5144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 #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5048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e a video game using only pencils, index cards and d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t as a tool to help understand the game’s fundamental design princip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sweat the detai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d two testers to other tables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until 3: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iscus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t’s share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did you captur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id you leave out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7430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96200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y transcends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chan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04920" y="13521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for understanding existing g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ese techniques for games in prog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is quick and 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don’t need programmers or arti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614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sing Paper Prototyp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811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’t replace actual gameplay tes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head start and keep you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give you a vocabulary to use when discussing your g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spcAft>
                <a:spcPts val="1500"/>
              </a:spcAft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as a tool to educate programmers. Have them play, to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ive 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ron Game Designer 23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ebook Hoedown 2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lin’ GRUVI 2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ample Ga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2698920" y="2200320"/>
          <a:ext cx="35496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200320"/>
                    <a:ext cx="35496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4"/>
          <p:cNvSpPr/>
          <p:nvPr/>
        </p:nvSpPr>
        <p:spPr>
          <a:xfrm>
            <a:off x="533520" y="285840"/>
            <a:ext cx="807696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ヒラギノ角ゴ Pro W3"/>
              </a:rPr>
              <a:t>Example Gam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1905120" y="2057400"/>
            <a:ext cx="5105160" cy="2800440"/>
          </a:xfrm>
          <a:prstGeom prst="rect">
            <a:avLst/>
          </a:prstGeom>
          <a:solidFill>
            <a:srgbClr val="606fa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981080" y="2266920"/>
          <a:ext cx="4826160" cy="24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66920"/>
                    <a:ext cx="4826160" cy="24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11"/>
          <p:cNvSpPr/>
          <p:nvPr/>
        </p:nvSpPr>
        <p:spPr>
          <a:xfrm>
            <a:off x="1905120" y="1447920"/>
            <a:ext cx="51051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Tony Hawk’s Pro Ska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asteroids-old"/>
          <p:cNvPicPr/>
          <p:nvPr/>
        </p:nvPicPr>
        <p:blipFill>
          <a:blip r:embed="rId1"/>
          <a:stretch/>
        </p:blipFill>
        <p:spPr>
          <a:xfrm>
            <a:off x="2666880" y="1047600"/>
            <a:ext cx="3962520" cy="39625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2665440" y="971640"/>
          <a:ext cx="40402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5440" y="971640"/>
                    <a:ext cx="4040280" cy="403848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Rectangle 5"/>
          <p:cNvSpPr/>
          <p:nvPr/>
        </p:nvSpPr>
        <p:spPr>
          <a:xfrm>
            <a:off x="152280" y="438120"/>
            <a:ext cx="8991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rebuchet MS"/>
              </a:rPr>
              <a:t>Asteroi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a digital g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paper proto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aesthetics survive the change in mediu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rainstor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some games to “unplug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k into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uild a Paper Vers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y your game’s play aesthetic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oose one aesthetic element to cap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99cc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Not to 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sweat the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try to duplicate the whole ga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76"/>
              </a:spcBef>
              <a:spcAft>
                <a:spcPts val="1188"/>
              </a:spcAft>
              <a:buClr>
                <a:srgbClr val="ffffff"/>
              </a:buClr>
              <a:buSzPct val="75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n’t focus on simulating computer fun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818640"/>
            <a:ext cx="8076960" cy="108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eta Test at 3:1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2038320"/>
            <a:ext cx="80769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y to have something playable quick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tera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2:56:43Z</dcterms:created>
  <dc:creator>Jamil Moledina</dc:creator>
  <dc:description/>
  <dc:language>en-US</dc:language>
  <cp:lastModifiedBy>Mahk</cp:lastModifiedBy>
  <cp:lastPrinted>1904-01-01T00:00:00Z</cp:lastPrinted>
  <dcterms:modified xsi:type="dcterms:W3CDTF">2011-03-01T04:14:58Z</dcterms:modified>
  <cp:revision>84</cp:revision>
  <dc:subject/>
  <dc:title>GDC 2005</dc:title>
</cp:coreProperties>
</file>