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E0F-80C8-4B03-8CD2-31A80E61A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1A3-68E7-4B19-B70C-0DFFFB7EA3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D1F-F5BD-40D2-86C3-FBEEB5CDC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E45-238D-4BD3-9B57-5422B721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9B5-AF30-4337-ACC7-37B23FFE17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913-CFF1-448A-A428-4343B808B8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CEC-A005-4387-AFA5-B9C15CC489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B50F-BDD2-43E2-94DD-CB936FC6F9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111-977B-4246-84D7-19A3B71D7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C626-6556-481D-9BF4-C4A2154B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35C6-88EB-47B8-AB88-76703F626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18EE-1F99-4BF7-B2AF-C358E1801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D78-996E-46E5-B25D-340014A9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728-A21B-48B1-BDE9-1612FC3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A65-2C50-4E9B-A6D2-3B8C2903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B3C-CB9D-4F40-B30C-EE2CF535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925-F2F0-4F6F-BAF0-F7A7038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ED0-58F4-4307-9E32-7382374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B00-74D4-47DB-B550-060A1EC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C2F-FAEE-45A5-A46F-F4662AC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9AA-D116-40B8-9AB9-BB48EDD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ECC-C326-485C-8FFE-0532D51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EE5-B3AE-4E8C-B007-7363DD7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5DD-7E9A-4AD3-96AE-B950521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E53-F1D1-43B5-BF53-0ADB25776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articip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k02%20playing%20four%20square.jpg"/>
          <p:cNvPicPr/>
          <p:nvPr/>
        </p:nvPicPr>
        <p:blipFill>
          <a:blip r:embed="rId1"/>
          <a:stretch/>
        </p:blipFill>
        <p:spPr>
          <a:xfrm>
            <a:off x="1981080" y="971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AutoShape 4"/>
          <p:cNvCxnSpPr>
            <a:stCxn id="115" idx="3"/>
            <a:endCxn id="116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7" name="AutoShape 5"/>
          <p:cNvCxnSpPr>
            <a:stCxn id="116" idx="3"/>
            <a:endCxn id="118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5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e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43240"/>
            <a:ext cx="73152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nt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la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events of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gives u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ynamic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1123920"/>
            <a:ext cx="2171880" cy="914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ule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829480" y="1123920"/>
            <a:ext cx="2171520" cy="914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n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448080" y="1123920"/>
            <a:ext cx="2171520" cy="914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ity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AutoShape 7"/>
          <p:cNvCxnSpPr>
            <a:stCxn id="121" idx="3"/>
            <a:endCxn id="123" idx="1"/>
          </p:cNvCxnSpPr>
          <p:nvPr/>
        </p:nvCxnSpPr>
        <p:spPr>
          <a:xfrm>
            <a:off x="3251160" y="158076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" name="AutoShape 8"/>
          <p:cNvCxnSpPr>
            <a:stCxn id="123" idx="3"/>
            <a:endCxn id="122" idx="1"/>
          </p:cNvCxnSpPr>
          <p:nvPr/>
        </p:nvCxnSpPr>
        <p:spPr>
          <a:xfrm>
            <a:off x="5632200" y="158076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444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edback System is On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600200" y="1400040"/>
            <a:ext cx="5459400" cy="3610080"/>
            <a:chOff x="1600200" y="1400040"/>
            <a:chExt cx="5459400" cy="3610080"/>
          </a:xfrm>
        </p:grpSpPr>
        <p:sp>
          <p:nvSpPr>
            <p:cNvPr id="128" name="Rectangle 2"/>
            <p:cNvSpPr/>
            <p:nvPr/>
          </p:nvSpPr>
          <p:spPr>
            <a:xfrm>
              <a:off x="2067120" y="1400040"/>
              <a:ext cx="1586880" cy="12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3"/>
            <p:cNvSpPr/>
            <p:nvPr/>
          </p:nvSpPr>
          <p:spPr>
            <a:xfrm>
              <a:off x="3714480" y="2314440"/>
              <a:ext cx="201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H="1" flipV="1">
              <a:off x="3531240" y="3962880"/>
              <a:ext cx="2196720" cy="18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 flipH="1">
              <a:off x="3531240" y="4328640"/>
              <a:ext cx="219672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6140160" y="2970360"/>
              <a:ext cx="0" cy="10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3" name="Picture 7" descr="therm"/>
            <p:cNvPicPr/>
            <p:nvPr/>
          </p:nvPicPr>
          <p:blipFill>
            <a:blip r:embed="rId1"/>
            <a:stretch/>
          </p:blipFill>
          <p:spPr>
            <a:xfrm>
              <a:off x="5789520" y="1521720"/>
              <a:ext cx="685440" cy="14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control"/>
            <p:cNvPicPr/>
            <p:nvPr/>
          </p:nvPicPr>
          <p:blipFill>
            <a:blip r:embed="rId2"/>
            <a:stretch/>
          </p:blipFill>
          <p:spPr>
            <a:xfrm>
              <a:off x="5789520" y="4023720"/>
              <a:ext cx="127008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cooler"/>
            <p:cNvPicPr/>
            <p:nvPr/>
          </p:nvPicPr>
          <p:blipFill>
            <a:blip r:embed="rId3"/>
            <a:stretch/>
          </p:blipFill>
          <p:spPr>
            <a:xfrm>
              <a:off x="2067120" y="4145400"/>
              <a:ext cx="138276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0" descr="heater"/>
            <p:cNvPicPr/>
            <p:nvPr/>
          </p:nvPicPr>
          <p:blipFill>
            <a:blip r:embed="rId4"/>
            <a:stretch/>
          </p:blipFill>
          <p:spPr>
            <a:xfrm>
              <a:off x="2067120" y="3292200"/>
              <a:ext cx="1403640" cy="8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Freeform 11"/>
            <p:cNvSpPr/>
            <p:nvPr/>
          </p:nvSpPr>
          <p:spPr>
            <a:xfrm>
              <a:off x="1854000" y="2680920"/>
              <a:ext cx="213120" cy="1037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600200" y="2376000"/>
              <a:ext cx="466920" cy="19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073320" y="1954080"/>
            <a:ext cx="4470480" cy="2979720"/>
            <a:chOff x="3073320" y="1954080"/>
            <a:chExt cx="4470480" cy="2979720"/>
          </a:xfrm>
        </p:grpSpPr>
        <p:graphicFrame>
          <p:nvGraphicFramePr>
            <p:cNvPr id="140" name="Object 2"/>
            <p:cNvGraphicFramePr/>
            <p:nvPr/>
          </p:nvGraphicFramePr>
          <p:xfrm>
            <a:off x="3073320" y="1954080"/>
            <a:ext cx="4470480" cy="29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3320" y="1954080"/>
                      <a:ext cx="4470480" cy="29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4"/>
            <p:cNvSpPr/>
            <p:nvPr/>
          </p:nvSpPr>
          <p:spPr>
            <a:xfrm rot="16200000">
              <a:off x="2732400" y="306648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4828680" y="43920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4" name="Picture 6" descr="dice"/>
          <p:cNvPicPr/>
          <p:nvPr/>
        </p:nvPicPr>
        <p:blipFill>
          <a:blip r:embed="rId3"/>
          <a:stretch/>
        </p:blipFill>
        <p:spPr>
          <a:xfrm>
            <a:off x="1397160" y="2563920"/>
            <a:ext cx="1663560" cy="148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Random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9988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model of 2d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Grand Unifi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logo.jpg"/>
          <p:cNvPicPr/>
          <p:nvPr/>
        </p:nvPicPr>
        <p:blipFill>
          <a:blip r:embed="rId1"/>
          <a:srcRect l="0" t="0" r="629" b="17473"/>
          <a:stretch/>
        </p:blipFill>
        <p:spPr>
          <a:xfrm>
            <a:off x="2362320" y="112392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504440"/>
            <a:ext cx="746784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What Dynamic Models can psychology prov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“Scourge Factor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4492800"/>
            <a:ext cx="670536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w might this fa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981080" y="1635120"/>
            <a:ext cx="1600200" cy="9684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ssy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5334120" y="163512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Some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nin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25780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’s gang up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90512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m Atta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657600" y="209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6172200" y="2492280"/>
            <a:ext cx="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3885840" y="3807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743200" y="26640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Greed Cataly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2" name="Content Placeholder 5" descr="no_pellet.jpg"/>
          <p:cNvPicPr/>
          <p:nvPr/>
        </p:nvPicPr>
        <p:blipFill>
          <a:blip r:embed="rId2"/>
          <a:stretch/>
        </p:blipFill>
        <p:spPr>
          <a:xfrm>
            <a:off x="4584600" y="1047600"/>
            <a:ext cx="3038400" cy="3505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2761920" y="454824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gam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ard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8" name="Content Placeholder 3" descr="orly_spock.jpg"/>
          <p:cNvPicPr/>
          <p:nvPr/>
        </p:nvPicPr>
        <p:blipFill>
          <a:blip r:embed="rId2"/>
          <a:stretch/>
        </p:blipFill>
        <p:spPr>
          <a:xfrm>
            <a:off x="4648320" y="1047600"/>
            <a:ext cx="253512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owerup wears o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s an “optimality cliff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ns enemies into scoring targ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s riskier p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ed Catalyst:” a “gift” that makes the player recklessly greed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120024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powerup changes the dynamics of play by changing the player’s behavior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onvince players to diverge from a “safer” gang-up strateg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’t act on what I can’t perce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Blin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FarmsFlickerMovie.gif"/>
          <p:cNvPicPr/>
          <p:nvPr/>
        </p:nvPicPr>
        <p:blipFill>
          <a:blip r:embed="rId1"/>
          <a:stretch/>
        </p:blipFill>
        <p:spPr>
          <a:xfrm>
            <a:off x="2308320" y="1055520"/>
            <a:ext cx="447336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 No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3" descr="fallout3screenshot2.jpg"/>
          <p:cNvPicPr/>
          <p:nvPr/>
        </p:nvPicPr>
        <p:blipFill>
          <a:blip r:embed="rId1"/>
          <a:stretch/>
        </p:blipFill>
        <p:spPr>
          <a:xfrm>
            <a:off x="1523880" y="1284120"/>
            <a:ext cx="60804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520" y="120024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rrors in perception can change the dynamics of pl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ause a player to miss a gang-up opportun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people assign blame or cre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Fundamental Attribution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18920"/>
            <a:ext cx="73152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own choices are rational and situati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people’s choices are governed by personality and moo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layers might misdiagnose a “scourge” situ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f-Serving B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958760"/>
            <a:ext cx="79246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successes are deliber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failures are not our faul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ヒラギノ角ゴ Pro W3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09320"/>
            <a:ext cx="73152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win, it’s sk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lose, it’s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ness is self-serv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037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tolerant of fail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stubborn about his choices. 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Confirmation bia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o need to change course in order to bring down the scour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09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arshmallow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video.mp4" descr=""/>
          <p:cNvPicPr/>
          <p:nvPr/>
        </p:nvPicPr>
        <p:blipFill>
          <a:blip r:embed="rId1"/>
          <a:stretch/>
        </p:blipFill>
        <p:spPr>
          <a:xfrm>
            <a:off x="1743120" y="93816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6440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Dissonance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have to Ea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EatTheMarshmallow.JPG"/>
          <p:cNvPicPr/>
          <p:nvPr/>
        </p:nvPicPr>
        <p:blipFill>
          <a:blip r:embed="rId1"/>
          <a:stretch/>
        </p:blipFill>
        <p:spPr>
          <a:xfrm>
            <a:off x="2133720" y="1481040"/>
            <a:ext cx="449568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Aesthetic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AutoShape 4"/>
          <p:cNvCxnSpPr>
            <a:stCxn id="195" idx="3"/>
            <a:endCxn id="196" idx="1"/>
          </p:cNvCxnSpPr>
          <p:nvPr/>
        </p:nvCxnSpPr>
        <p:spPr>
          <a:xfrm>
            <a:off x="3098520" y="306684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7" name="AutoShape 5"/>
          <p:cNvCxnSpPr>
            <a:stCxn id="196" idx="3"/>
            <a:endCxn id="198" idx="1"/>
          </p:cNvCxnSpPr>
          <p:nvPr/>
        </p:nvCxnSpPr>
        <p:spPr>
          <a:xfrm>
            <a:off x="5479920" y="306684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5" name="Rectangle 6"/>
          <p:cNvSpPr/>
          <p:nvPr/>
        </p:nvSpPr>
        <p:spPr>
          <a:xfrm>
            <a:off x="914400" y="203832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295800" y="203832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676840" y="203832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66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56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eel smart without making you feel dum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f there’s some random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ner’s Luck”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zards’ 70/30 ru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96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92360"/>
            <a:ext cx="8229600" cy="27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the player knows about, but still doesn’t see co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create a shallower learning cur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0b9d14440856a1bf15c863876ad6e80963695e0_full.jpg"/>
          <p:cNvPicPr/>
          <p:nvPr/>
        </p:nvPicPr>
        <p:blipFill>
          <a:blip r:embed="rId1"/>
          <a:stretch/>
        </p:blipFill>
        <p:spPr>
          <a:xfrm>
            <a:off x="5791320" y="112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893480" y="234324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www.faqs.org/photo-dict/photofiles/list/4871/6412dog_agility_trial.jpg"/>
          <p:cNvPicPr/>
          <p:nvPr/>
        </p:nvPicPr>
        <p:blipFill>
          <a:blip r:embed="rId1"/>
          <a:stretch/>
        </p:blipFill>
        <p:spPr>
          <a:xfrm>
            <a:off x="1866960" y="1325520"/>
            <a:ext cx="5448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9522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A: Human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AutoShape 4"/>
          <p:cNvCxnSpPr>
            <a:stCxn id="92" idx="3"/>
            <a:endCxn id="93" idx="1"/>
          </p:cNvCxnSpPr>
          <p:nvPr/>
        </p:nvCxnSpPr>
        <p:spPr>
          <a:xfrm>
            <a:off x="29462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4" name="AutoShape 5"/>
          <p:cNvCxnSpPr>
            <a:stCxn id="93" idx="3"/>
            <a:endCxn id="95" idx="1"/>
          </p:cNvCxnSpPr>
          <p:nvPr/>
        </p:nvCxnSpPr>
        <p:spPr>
          <a:xfrm>
            <a:off x="53276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92" name="Rectangle 6"/>
          <p:cNvSpPr/>
          <p:nvPr/>
        </p:nvSpPr>
        <p:spPr>
          <a:xfrm>
            <a:off x="762120" y="1886040"/>
            <a:ext cx="217152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43160" y="1886040"/>
            <a:ext cx="217188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524560" y="1886040"/>
            <a:ext cx="217152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25712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a sense of inves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s noobs out and enthusiasts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ion ri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vet rope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cquisition vs. ret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these separat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4019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parate view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4"/>
          <p:cNvCxnSpPr/>
          <p:nvPr/>
        </p:nvCxnSpPr>
        <p:spPr>
          <a:xfrm>
            <a:off x="367020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Rectangle 8"/>
          <p:cNvSpPr/>
          <p:nvPr/>
        </p:nvSpPr>
        <p:spPr>
          <a:xfrm>
            <a:off x="588636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50532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2392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does th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lay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t into MDA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3152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A is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other appro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udi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audience.jpg"/>
          <p:cNvPicPr/>
          <p:nvPr/>
        </p:nvPicPr>
        <p:blipFill>
          <a:blip r:embed="rId1"/>
          <a:stretch/>
        </p:blipFill>
        <p:spPr>
          <a:xfrm>
            <a:off x="1676520" y="89532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4"/>
          <p:cNvCxnSpPr>
            <a:stCxn id="101" idx="3"/>
            <a:endCxn id="102" idx="1"/>
          </p:cNvCxnSpPr>
          <p:nvPr/>
        </p:nvCxnSpPr>
        <p:spPr>
          <a:xfrm>
            <a:off x="331488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3" name="AutoShape 5"/>
          <p:cNvCxnSpPr>
            <a:stCxn id="102" idx="3"/>
            <a:endCxn id="104" idx="1"/>
          </p:cNvCxnSpPr>
          <p:nvPr/>
        </p:nvCxnSpPr>
        <p:spPr>
          <a:xfrm>
            <a:off x="569592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1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EyeToy.jpg"/>
          <p:cNvPicPr/>
          <p:nvPr/>
        </p:nvPicPr>
        <p:blipFill>
          <a:blip r:embed="rId1"/>
          <a:stretch/>
        </p:blipFill>
        <p:spPr>
          <a:xfrm>
            <a:off x="1924200" y="10047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AutoShape 4"/>
          <p:cNvCxnSpPr>
            <a:stCxn id="108" idx="3"/>
            <a:endCxn id="109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0" name="AutoShape 5"/>
          <p:cNvCxnSpPr>
            <a:stCxn id="109" idx="3"/>
            <a:endCxn id="111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8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7T05:58:01Z</dcterms:modified>
  <cp:revision>64</cp:revision>
  <dc:subject/>
  <dc:title>GDC 2005</dc:title>
</cp:coreProperties>
</file>