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F1C6-19D9-44F2-ACD9-9256C256342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8662-6D2D-4639-8794-78327DB9EB5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E50C-A13B-41D6-AD8C-37AC899C21F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C856-485F-4254-9607-E0C8B8CBA3D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4558-BB2D-4E0D-AFE1-A4BEE12A209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6F87-CEC6-424E-993A-7C5602EFE6B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52FF-4D09-404E-9C15-552057C5C19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17A0-6C02-426B-9CF9-6AF3885489E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716F-338E-4675-8BA7-5F61AB4F646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A685-2E1E-4B60-B77A-CAB7A9A840C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D402-D528-4C5F-9E52-27B82B1FCCF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1FF1-E2BB-4400-8707-86245ECDEFD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ablo card ga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ill monsters, get treasure, buy better stuff, kill bigger monsters, get bigger treasures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9BA8-5253-4ED5-BCC5-4A38F357CB9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749D-BB0C-406B-AA77-1DADDA810FD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027F-6159-405E-9404-B951B1DC9A3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448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9580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52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448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9580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520" y="818640"/>
            <a:ext cx="807696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6448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9580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352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6448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9580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53ED-9247-4764-BFB7-1C4F9BEBE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8017-4D38-4D1E-8EA1-4B297B6F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B331-0F71-4184-8C91-9F823AF6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2EB7-948B-441E-A566-3D6B69EF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2EDA-FAD5-4790-BCF5-C1922C76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533520" y="818640"/>
            <a:ext cx="807696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830D-8588-4B38-8081-EBAC1D8C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7DC8-2CAB-470B-B503-4959F7D1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0D7F-CA87-467F-B424-4EAEE61C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606B-033D-4002-B726-13A5E6C1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7A41-D67F-4F39-BEFF-DCB2C0BA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7CC7-671D-476D-85BB-4847D1723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6448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9580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3352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6448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9580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D6ED-95EF-4093-A654-39DC6C918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F1561-4148-4CC2-9210-0335B5D34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4B9F-6582-4ABF-916C-37284300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B5477-CD64-45CF-889C-4000311E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3898-97E4-42C8-A469-3DA61A52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A594-1E41-413F-B28C-4CF90B8C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533520" y="818640"/>
            <a:ext cx="807696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4989-79BB-46ED-A14D-3D55089D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7E536-B333-4D71-AFA8-4B352D8A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50C2-BC84-4339-859D-3535E955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78BD-A0F5-4E37-850B-E5AB2656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6D19-3D1C-47F1-999A-8B59F10C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578D-978C-42D8-B44B-830917DE7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6448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9580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3352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6448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9580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1120-2955-4BB6-9583-3A0CD214B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086FF-3484-4C69-B365-40182BE91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A6B2C-2631-48B0-84F6-A135F0CD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69240-E72C-4BE0-82F1-05B3E74E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9D6F3-976A-4D62-8BE6-12BA4D94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529CF-6E2F-4E27-A735-A7CBA08D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533520" y="818640"/>
            <a:ext cx="807696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E3177-67B1-41B9-9D9C-CB839FAC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E8F91-BCD6-486B-893A-141CFC17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D7BD5-C3C4-4968-B95A-65C924E6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925A8-0641-4FE1-8289-18E5F116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755B3-FA6C-4209-A81C-98D56958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07583-0099-4192-B0AD-AF6E205EB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520" y="818640"/>
            <a:ext cx="807696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6448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9580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3352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6448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9580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D8EC7-6563-44C3-9B25-AC0B872A8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GDC1011_2011_PPT_Template-Content_FINA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99880" indent="-17136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4" descr="GDC1011_2011_PPT_Template-Mai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99880" indent="-17136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GDC1011_2011_PPT_Template-Content_FINA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99880" indent="-17136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66CE-9458-4D90-88D4-99B339116542}" type="slidenum">
              <a:rPr b="0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GDC1011_2011_PPT_Template-Content_FINA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99880" indent="-17136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4F7C-0EA2-42CC-B710-8C9C05A52968}" type="slidenum">
              <a:rPr b="0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GDC1011_2011_PPT_Template-Content_FINA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99880" indent="-17136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784A-24B2-453B-9DA1-B3EF507A9B6E}" type="slidenum">
              <a:rPr b="0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514440"/>
            <a:ext cx="807696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xercise #2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33520" y="150480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ulate a video game using only pencils, index cards and di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it as a tool to help understand the game’s fundamental design princip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n’t sweat the detai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uild a Paper Vers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To 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dentify your game’s play aesthetic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hoose one aesthetic element to capt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Not to 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spcAft>
                <a:spcPts val="1188"/>
              </a:spcAft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n’t sweat the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spcAft>
                <a:spcPts val="1188"/>
              </a:spcAft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n’t try to duplicate the whole ga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spcAft>
                <a:spcPts val="1188"/>
              </a:spcAft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n’t focus on simulating computer functio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eta Test at 3:15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ry to have something playable quickly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terate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eta Tes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d two testers to other tables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st until 3:4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iscuss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t’s share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aesthetics did you captur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did you leave out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743040"/>
            <a:ext cx="807696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e Messag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33520" y="196200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y transcends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chan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ynam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esthe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metim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04920" y="1352160"/>
            <a:ext cx="86104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 for understanding existing ga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these techniques for games in progr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ess is quick and chea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don’t need programmers or arti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3614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sing Paper Prototyp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3614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sing Paper Prototyp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15811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spcAft>
                <a:spcPts val="1500"/>
              </a:spcAft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’t replace actual gameplay tes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spcAft>
                <a:spcPts val="1500"/>
              </a:spcAft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give you a head start and keep you foc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spcAft>
                <a:spcPts val="1500"/>
              </a:spcAft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give you a vocabulary to use when discussing your ga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spcAft>
                <a:spcPts val="1500"/>
              </a:spcAft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be used as a tool to educate programmers. Have them play, too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3"/>
          <p:cNvSpPr/>
          <p:nvPr/>
        </p:nvSpPr>
        <p:spPr>
          <a:xfrm>
            <a:off x="1905120" y="2057400"/>
            <a:ext cx="5105160" cy="2800440"/>
          </a:xfrm>
          <a:prstGeom prst="rect">
            <a:avLst/>
          </a:prstGeom>
          <a:solidFill>
            <a:srgbClr val="606fae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1905120" y="1447920"/>
            <a:ext cx="510516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Tony Hawk’s Pro Skat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285840"/>
            <a:ext cx="807696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xample Gam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6" name="Object 2"/>
          <p:cNvGraphicFramePr/>
          <p:nvPr/>
        </p:nvGraphicFramePr>
        <p:xfrm>
          <a:off x="2698920" y="2200320"/>
          <a:ext cx="3549600" cy="25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8920" y="2200320"/>
                    <a:ext cx="3549600" cy="25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4"/>
          <p:cNvSpPr/>
          <p:nvPr/>
        </p:nvSpPr>
        <p:spPr>
          <a:xfrm>
            <a:off x="533520" y="285840"/>
            <a:ext cx="807696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Example Gam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1905120" y="2057400"/>
            <a:ext cx="5105160" cy="2800440"/>
          </a:xfrm>
          <a:prstGeom prst="rect">
            <a:avLst/>
          </a:prstGeom>
          <a:solidFill>
            <a:srgbClr val="606fae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20" name="Object 2"/>
          <p:cNvGraphicFramePr/>
          <p:nvPr/>
        </p:nvGraphicFramePr>
        <p:xfrm>
          <a:off x="1981080" y="2266920"/>
          <a:ext cx="4826160" cy="24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266920"/>
                    <a:ext cx="4826160" cy="24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Rectangle 11"/>
          <p:cNvSpPr/>
          <p:nvPr/>
        </p:nvSpPr>
        <p:spPr>
          <a:xfrm>
            <a:off x="1905120" y="1447920"/>
            <a:ext cx="510516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Tony Hawk’s Pro Skat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3"/>
          <p:cNvSpPr/>
          <p:nvPr/>
        </p:nvSpPr>
        <p:spPr>
          <a:xfrm>
            <a:off x="152280" y="438120"/>
            <a:ext cx="8991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Asteroi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Picture 4" descr="asteroids-old"/>
          <p:cNvPicPr/>
          <p:nvPr/>
        </p:nvPicPr>
        <p:blipFill>
          <a:blip r:embed="rId1"/>
          <a:stretch/>
        </p:blipFill>
        <p:spPr>
          <a:xfrm>
            <a:off x="2666880" y="1047600"/>
            <a:ext cx="3962520" cy="39625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Object 2"/>
          <p:cNvGraphicFramePr/>
          <p:nvPr/>
        </p:nvGraphicFramePr>
        <p:xfrm>
          <a:off x="2665440" y="971640"/>
          <a:ext cx="404028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5440" y="971640"/>
                    <a:ext cx="4040280" cy="4038480"/>
                  </a:xfrm>
                  <a:prstGeom prst="rect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7" name="Rectangle 5"/>
          <p:cNvSpPr/>
          <p:nvPr/>
        </p:nvSpPr>
        <p:spPr>
          <a:xfrm>
            <a:off x="152280" y="438120"/>
            <a:ext cx="8991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Asteroi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3" descr="warcards"/>
          <p:cNvPicPr/>
          <p:nvPr/>
        </p:nvPicPr>
        <p:blipFill>
          <a:blip r:embed="rId1"/>
          <a:stretch/>
        </p:blipFill>
        <p:spPr>
          <a:xfrm>
            <a:off x="2590920" y="590400"/>
            <a:ext cx="4190760" cy="43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6" descr="civ-soren"/>
          <p:cNvPicPr/>
          <p:nvPr/>
        </p:nvPicPr>
        <p:blipFill>
          <a:blip r:embed="rId1"/>
          <a:stretch/>
        </p:blipFill>
        <p:spPr>
          <a:xfrm>
            <a:off x="1905120" y="647640"/>
            <a:ext cx="5715000" cy="42861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xercis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a digital ga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 a paper prototy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aesthetics survive the change in medium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rainstorm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some games to “unplug.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eak into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22:56:43Z</dcterms:created>
  <dc:creator>Jamil Moledina</dc:creator>
  <dc:description/>
  <dc:language>en-US</dc:language>
  <cp:lastModifiedBy>MAHK</cp:lastModifiedBy>
  <cp:lastPrinted>1904-01-01T00:00:00Z</cp:lastPrinted>
  <dcterms:modified xsi:type="dcterms:W3CDTF">2011-02-13T00:24:38Z</dcterms:modified>
  <cp:revision>83</cp:revision>
  <dc:subject/>
  <dc:title>GDC 2005</dc:title>
</cp:coreProperties>
</file>