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20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33BD-4227-49A5-B43E-C2E5B6F266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09B9-3557-4F88-8EFB-387FB75309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15BE-2B57-4DDF-8A43-06D1678D16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912C-3671-43EA-B734-74F55CF006C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F77D-0DF4-4E98-A912-B4A4B37F66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685B-A720-48AA-81EA-A34BA0A9290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3406-A8F3-4AB3-9063-A9F7FBC321A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FCC4-B870-42D9-ABD4-98098E6F5A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5577-DE59-4937-9474-BC7D69D7877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253D-0B44-419C-81F3-61EF4B5E728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15CF-CA40-467A-B8D1-9B1630A1B12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940B-37C5-47D7-8E58-A7A017F64BE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E50A-E166-4A0C-B2F3-A8B383B8E25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2056-F08F-4A2E-A254-7B3CEAE3E4E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2C25-02C2-4F36-AEE0-DBDB215158B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9AB4-C37B-4F5A-9AA9-2226AD140FE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DE68-4EA1-4A4B-A37E-903D9BC2BC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25AA-C21C-498D-AF70-7B2AAB1D71D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A561-7883-483D-82CD-DD9FE6027E2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28B5-FD80-44AD-A554-77903C5E0C6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4A64-AF27-4619-9B18-6DE1DC8F666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26AB-2FB8-433C-A73A-629884F5E3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4DB0-66C3-4733-8EDA-F56F794427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8D2B-9690-4769-9856-E5D009EAAC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1170-7AA7-4C57-8F86-90AF8D9E30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DB12-DE85-4967-A609-3919F578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0A8D-75C0-4333-9DBC-529331ED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338-968A-4894-8536-44A2C84F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5AF-B3D7-4E29-886F-34A30AB2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A5B-F66F-4D3B-B8F1-7DCB0D05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9A9-F9CC-472F-B1C0-F640CFEC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182-8FC7-4234-A4A7-66255981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B928-2073-4DC4-8F34-FD282133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85A3-82E2-4436-9832-095BE8BA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51F5-388A-4E4B-9E99-53F4671F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91A-5CF3-4D04-9949-72456085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BFE7-4B5D-428B-8823-D7345887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ED8B-E823-453B-8E67-EBE57834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26EB-DC57-4E75-A100-0E75AD23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15F9-6CE7-4EB7-A5B4-AAE6993C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25F1-335E-4200-B6B9-20943EE2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08CD-B362-454B-921B-D1E50643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7EA8-F8BD-48F9-9290-17435412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8C49-D037-41AB-89A9-F1E81575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7870-C9C0-45F7-A9D0-F163F8F3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CFC0-4159-4A56-8B59-5800181B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A8CE-A1DC-4A6D-85C8-88C7285A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1BF9-8C69-4183-9143-11943837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B30D-A45A-4960-A29D-A9E30B74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02443-0A86-4594-BC93-D1BE478B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CB548-B913-42D3-835B-18CB22F0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1A89D-A344-4645-95F9-AF3E444E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D0A14-A952-4E8A-BBF2-F2F3A894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5BF7B-AA38-49ED-8845-E39E3F76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991A2-173E-4933-87BA-BF2E2DA9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6AD83-9B3D-4B32-9F21-70373553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B9D16-10BB-4036-A4DA-DEA2EEFE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3075E-BA88-47B1-A2C8-ECDAE4A1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25FD1-96ED-439A-A82B-CB75F19B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0FC87-AC7C-4412-ADBF-678512B3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2C6F5-83BE-49CC-88BA-E30F357F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GDC1011_2011_PPT_Template-Mai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FB64-9B02-4E31-B804-3223D46AD7B7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BD8B-6E3C-47C6-931E-5DAF9F140587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CF35-E302-40FA-B2E8-91BE9C2B556E}" type="slidenum">
              <a:rPr b="0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Is this thing on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3520" y="2038320"/>
            <a:ext cx="8076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7560" y="343080"/>
            <a:ext cx="61722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ail Fa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3" descr="21be6c83-2cfe-4ab0-8538-da1c95c4b03f.jpg"/>
          <p:cNvPicPr/>
          <p:nvPr/>
        </p:nvPicPr>
        <p:blipFill>
          <a:blip r:embed="rId1"/>
          <a:srcRect l="0" t="23915" r="709" b="16305"/>
          <a:stretch/>
        </p:blipFill>
        <p:spPr>
          <a:xfrm>
            <a:off x="1981080" y="1246320"/>
            <a:ext cx="502920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3"/>
          <p:cNvSpPr/>
          <p:nvPr/>
        </p:nvSpPr>
        <p:spPr>
          <a:xfrm>
            <a:off x="3695760" y="1657440"/>
            <a:ext cx="1752480" cy="342720"/>
          </a:xfrm>
          <a:prstGeom prst="rightArrow">
            <a:avLst>
              <a:gd name="adj1" fmla="val 50000"/>
              <a:gd name="adj2" fmla="val 9587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AutoShape 7"/>
          <p:cNvSpPr/>
          <p:nvPr/>
        </p:nvSpPr>
        <p:spPr>
          <a:xfrm rot="7615200">
            <a:off x="5200560" y="2495520"/>
            <a:ext cx="685800" cy="495360"/>
          </a:xfrm>
          <a:prstGeom prst="rightArrow">
            <a:avLst>
              <a:gd name="adj1" fmla="val 50000"/>
              <a:gd name="adj2" fmla="val 4614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AutoShape 8"/>
          <p:cNvSpPr/>
          <p:nvPr/>
        </p:nvSpPr>
        <p:spPr>
          <a:xfrm flipV="1" rot="13984800">
            <a:off x="3143160" y="2552400"/>
            <a:ext cx="685800" cy="495360"/>
          </a:xfrm>
          <a:prstGeom prst="rightArrow">
            <a:avLst>
              <a:gd name="adj1" fmla="val 50000"/>
              <a:gd name="adj2" fmla="val 4614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28640" y="438120"/>
            <a:ext cx="289548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ail Fa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3902040" y="1919160"/>
            <a:ext cx="1479600" cy="385920"/>
          </a:xfrm>
          <a:prstGeom prst="rightArrow">
            <a:avLst>
              <a:gd name="adj1" fmla="val 50000"/>
              <a:gd name="adj2" fmla="val 95796"/>
            </a:avLst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0" name="Oval 4"/>
          <p:cNvGrpSpPr/>
          <p:nvPr/>
        </p:nvGrpSpPr>
        <p:grpSpPr>
          <a:xfrm>
            <a:off x="2114640" y="1322280"/>
            <a:ext cx="1652400" cy="1652760"/>
            <a:chOff x="2114640" y="1322280"/>
            <a:chExt cx="1652400" cy="1652760"/>
          </a:xfrm>
        </p:grpSpPr>
        <p:pic>
          <p:nvPicPr>
            <p:cNvPr id="241" name="Oval 4" descr=""/>
            <p:cNvPicPr/>
            <p:nvPr/>
          </p:nvPicPr>
          <p:blipFill>
            <a:blip r:embed="rId1"/>
            <a:stretch/>
          </p:blipFill>
          <p:spPr>
            <a:xfrm>
              <a:off x="2114640" y="1322280"/>
              <a:ext cx="16524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368440" y="1576440"/>
              <a:ext cx="113832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est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3" name="Oval 6"/>
          <p:cNvSpPr/>
          <p:nvPr/>
        </p:nvSpPr>
        <p:spPr>
          <a:xfrm>
            <a:off x="3807000" y="3335400"/>
            <a:ext cx="1606320" cy="1608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6600"/>
              </a:gs>
              <a:gs pos="100000">
                <a:srgbClr val="ffffff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AutoShape 7"/>
          <p:cNvSpPr/>
          <p:nvPr/>
        </p:nvSpPr>
        <p:spPr>
          <a:xfrm rot="7615200">
            <a:off x="5076720" y="2931840"/>
            <a:ext cx="771480" cy="419040"/>
          </a:xfrm>
          <a:prstGeom prst="rightArrow">
            <a:avLst>
              <a:gd name="adj1" fmla="val 50000"/>
              <a:gd name="adj2" fmla="val 46154"/>
            </a:avLst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AutoShape 8"/>
          <p:cNvSpPr/>
          <p:nvPr/>
        </p:nvSpPr>
        <p:spPr>
          <a:xfrm flipV="1" rot="13984800">
            <a:off x="3339360" y="2995920"/>
            <a:ext cx="772920" cy="418680"/>
          </a:xfrm>
          <a:prstGeom prst="rightArrow">
            <a:avLst>
              <a:gd name="adj1" fmla="val 50000"/>
              <a:gd name="adj2" fmla="val 46186"/>
            </a:avLst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6" name="Oval 5"/>
          <p:cNvGrpSpPr/>
          <p:nvPr/>
        </p:nvGrpSpPr>
        <p:grpSpPr>
          <a:xfrm>
            <a:off x="5614920" y="1407960"/>
            <a:ext cx="1650960" cy="1652760"/>
            <a:chOff x="5614920" y="1407960"/>
            <a:chExt cx="1650960" cy="1652760"/>
          </a:xfrm>
        </p:grpSpPr>
        <p:pic>
          <p:nvPicPr>
            <p:cNvPr id="247" name="Oval 5" descr=""/>
            <p:cNvPicPr/>
            <p:nvPr/>
          </p:nvPicPr>
          <p:blipFill>
            <a:blip r:embed="rId2"/>
            <a:stretch/>
          </p:blipFill>
          <p:spPr>
            <a:xfrm>
              <a:off x="5614920" y="1407960"/>
              <a:ext cx="165096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865840" y="1663560"/>
              <a:ext cx="113832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9" name="Oval 5"/>
          <p:cNvSpPr/>
          <p:nvPr/>
        </p:nvSpPr>
        <p:spPr>
          <a:xfrm>
            <a:off x="5486400" y="1420920"/>
            <a:ext cx="167652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Analyz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Oval 5"/>
          <p:cNvSpPr/>
          <p:nvPr/>
        </p:nvSpPr>
        <p:spPr>
          <a:xfrm>
            <a:off x="3733920" y="3714840"/>
            <a:ext cx="167616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Revi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3"/>
          <p:cNvSpPr/>
          <p:nvPr/>
        </p:nvSpPr>
        <p:spPr>
          <a:xfrm>
            <a:off x="3695760" y="1657440"/>
            <a:ext cx="1752480" cy="342720"/>
          </a:xfrm>
          <a:prstGeom prst="rightArrow">
            <a:avLst>
              <a:gd name="adj1" fmla="val 50000"/>
              <a:gd name="adj2" fmla="val 9587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AutoShape 7"/>
          <p:cNvSpPr/>
          <p:nvPr/>
        </p:nvSpPr>
        <p:spPr>
          <a:xfrm rot="7615200">
            <a:off x="5200560" y="2495520"/>
            <a:ext cx="685800" cy="495360"/>
          </a:xfrm>
          <a:prstGeom prst="rightArrow">
            <a:avLst>
              <a:gd name="adj1" fmla="val 50000"/>
              <a:gd name="adj2" fmla="val 4614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AutoShape 8"/>
          <p:cNvSpPr/>
          <p:nvPr/>
        </p:nvSpPr>
        <p:spPr>
          <a:xfrm flipV="1" rot="13984800">
            <a:off x="3143160" y="2552400"/>
            <a:ext cx="685800" cy="495360"/>
          </a:xfrm>
          <a:prstGeom prst="rightArrow">
            <a:avLst>
              <a:gd name="adj1" fmla="val 50000"/>
              <a:gd name="adj2" fmla="val 4614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409720" y="3619440"/>
            <a:ext cx="35816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llow the Fun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902040" y="1919160"/>
            <a:ext cx="1479600" cy="385920"/>
          </a:xfrm>
          <a:prstGeom prst="rightArrow">
            <a:avLst>
              <a:gd name="adj1" fmla="val 50000"/>
              <a:gd name="adj2" fmla="val 95796"/>
            </a:avLst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6" name="Oval 4"/>
          <p:cNvGrpSpPr/>
          <p:nvPr/>
        </p:nvGrpSpPr>
        <p:grpSpPr>
          <a:xfrm>
            <a:off x="2114640" y="1322280"/>
            <a:ext cx="1652400" cy="1652760"/>
            <a:chOff x="2114640" y="1322280"/>
            <a:chExt cx="1652400" cy="1652760"/>
          </a:xfrm>
        </p:grpSpPr>
        <p:pic>
          <p:nvPicPr>
            <p:cNvPr id="257" name="Oval 4" descr=""/>
            <p:cNvPicPr/>
            <p:nvPr/>
          </p:nvPicPr>
          <p:blipFill>
            <a:blip r:embed="rId1"/>
            <a:stretch/>
          </p:blipFill>
          <p:spPr>
            <a:xfrm>
              <a:off x="2114640" y="1322280"/>
              <a:ext cx="16524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2368440" y="1576440"/>
              <a:ext cx="113832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est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59" name="Oval 6"/>
          <p:cNvSpPr/>
          <p:nvPr/>
        </p:nvSpPr>
        <p:spPr>
          <a:xfrm>
            <a:off x="3807000" y="3335400"/>
            <a:ext cx="1606320" cy="1608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6600"/>
              </a:gs>
              <a:gs pos="100000">
                <a:srgbClr val="ffffff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AutoShape 7"/>
          <p:cNvSpPr/>
          <p:nvPr/>
        </p:nvSpPr>
        <p:spPr>
          <a:xfrm rot="7615200">
            <a:off x="5076720" y="2931840"/>
            <a:ext cx="771480" cy="419040"/>
          </a:xfrm>
          <a:prstGeom prst="rightArrow">
            <a:avLst>
              <a:gd name="adj1" fmla="val 50000"/>
              <a:gd name="adj2" fmla="val 46154"/>
            </a:avLst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AutoShape 8"/>
          <p:cNvSpPr/>
          <p:nvPr/>
        </p:nvSpPr>
        <p:spPr>
          <a:xfrm flipV="1" rot="13984800">
            <a:off x="3339360" y="2995920"/>
            <a:ext cx="772920" cy="418680"/>
          </a:xfrm>
          <a:prstGeom prst="rightArrow">
            <a:avLst>
              <a:gd name="adj1" fmla="val 50000"/>
              <a:gd name="adj2" fmla="val 46186"/>
            </a:avLst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2" name="Oval 5"/>
          <p:cNvGrpSpPr/>
          <p:nvPr/>
        </p:nvGrpSpPr>
        <p:grpSpPr>
          <a:xfrm>
            <a:off x="5614920" y="1407960"/>
            <a:ext cx="1650960" cy="1652760"/>
            <a:chOff x="5614920" y="1407960"/>
            <a:chExt cx="1650960" cy="1652760"/>
          </a:xfrm>
        </p:grpSpPr>
        <p:pic>
          <p:nvPicPr>
            <p:cNvPr id="263" name="Oval 5" descr=""/>
            <p:cNvPicPr/>
            <p:nvPr/>
          </p:nvPicPr>
          <p:blipFill>
            <a:blip r:embed="rId2"/>
            <a:stretch/>
          </p:blipFill>
          <p:spPr>
            <a:xfrm>
              <a:off x="5614920" y="1407960"/>
              <a:ext cx="165096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865840" y="1663560"/>
              <a:ext cx="113832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65" name="Oval 5"/>
          <p:cNvSpPr/>
          <p:nvPr/>
        </p:nvSpPr>
        <p:spPr>
          <a:xfrm>
            <a:off x="5486400" y="1420920"/>
            <a:ext cx="167652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Analyz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Oval 5"/>
          <p:cNvSpPr/>
          <p:nvPr/>
        </p:nvSpPr>
        <p:spPr>
          <a:xfrm>
            <a:off x="3733920" y="3714840"/>
            <a:ext cx="167616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Revi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3429000" y="438120"/>
            <a:ext cx="28954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Fail Fast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D Talk: Marshmallow Challeng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TomWujec_2010U.mp4" descr=""/>
          <p:cNvPicPr/>
          <p:nvPr/>
        </p:nvPicPr>
        <p:blipFill>
          <a:blip r:embed="rId1"/>
          <a:stretch/>
        </p:blipFill>
        <p:spPr>
          <a:xfrm>
            <a:off x="3048120" y="22669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Channel your inner kindergartener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33520" y="2038320"/>
            <a:ext cx="8076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eak Into Room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 poker chip col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3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t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2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ame/Software Parallel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33520" y="2038320"/>
            <a:ext cx="8076960" cy="2743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C:\Documents and Settings\mahk\My Documents\My Pictures\abacus.jpg"/>
          <p:cNvPicPr/>
          <p:nvPr/>
        </p:nvPicPr>
        <p:blipFill>
          <a:blip r:embed="rId2"/>
          <a:stretch/>
        </p:blipFill>
        <p:spPr>
          <a:xfrm>
            <a:off x="4648320" y="2114640"/>
            <a:ext cx="3504960" cy="1571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C:\Documents and Settings\mahk\My Documents\My Pictures\chess-(b).jpg"/>
          <p:cNvPicPr/>
          <p:nvPr/>
        </p:nvPicPr>
        <p:blipFill>
          <a:blip r:embed="rId3"/>
          <a:stretch/>
        </p:blipFill>
        <p:spPr>
          <a:xfrm>
            <a:off x="380880" y="2090880"/>
            <a:ext cx="3429000" cy="16812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9"/>
          <p:cNvSpPr/>
          <p:nvPr/>
        </p:nvSpPr>
        <p:spPr>
          <a:xfrm>
            <a:off x="4004280" y="240048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MDA Framewor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3520" y="2038320"/>
            <a:ext cx="807696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81" name="Group 3"/>
          <p:cNvGrpSpPr/>
          <p:nvPr/>
        </p:nvGrpSpPr>
        <p:grpSpPr>
          <a:xfrm>
            <a:off x="1143000" y="2000160"/>
            <a:ext cx="6933960" cy="1543320"/>
            <a:chOff x="1143000" y="2000160"/>
            <a:chExt cx="6933960" cy="1543320"/>
          </a:xfrm>
        </p:grpSpPr>
        <p:cxnSp>
          <p:nvCxnSpPr>
            <p:cNvPr id="282" name="AutoShape 4"/>
            <p:cNvCxnSpPr>
              <a:stCxn id="283" idx="3"/>
              <a:endCxn id="284" idx="1"/>
            </p:cNvCxnSpPr>
            <p:nvPr/>
          </p:nvCxnSpPr>
          <p:spPr>
            <a:xfrm>
              <a:off x="3327480" y="2771640"/>
              <a:ext cx="18432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lg"/>
            </a:ln>
          </p:spPr>
        </p:cxnSp>
        <p:cxnSp>
          <p:nvCxnSpPr>
            <p:cNvPr id="285" name="AutoShape 5"/>
            <p:cNvCxnSpPr>
              <a:stCxn id="284" idx="3"/>
              <a:endCxn id="286" idx="1"/>
            </p:cNvCxnSpPr>
            <p:nvPr/>
          </p:nvCxnSpPr>
          <p:spPr>
            <a:xfrm>
              <a:off x="5708520" y="2771640"/>
              <a:ext cx="18468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lg"/>
            </a:ln>
          </p:spPr>
        </p:cxnSp>
        <p:sp>
          <p:nvSpPr>
            <p:cNvPr id="283" name="Rectangle 6"/>
            <p:cNvSpPr/>
            <p:nvPr/>
          </p:nvSpPr>
          <p:spPr>
            <a:xfrm>
              <a:off x="1143000" y="2000160"/>
              <a:ext cx="2171160" cy="1543320"/>
            </a:xfrm>
            <a:prstGeom prst="rect">
              <a:avLst/>
            </a:prstGeom>
            <a:solidFill>
              <a:srgbClr val="33c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Arial Narrow"/>
                </a:rPr>
                <a:t>Mechanics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4" name="Rectangle 7"/>
            <p:cNvSpPr/>
            <p:nvPr/>
          </p:nvSpPr>
          <p:spPr>
            <a:xfrm>
              <a:off x="3524400" y="2000160"/>
              <a:ext cx="2171160" cy="15433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Arial Narrow"/>
                </a:rPr>
                <a:t>Dynamics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6" name="Rectangle 8"/>
            <p:cNvSpPr/>
            <p:nvPr/>
          </p:nvSpPr>
          <p:spPr>
            <a:xfrm>
              <a:off x="5906160" y="2000160"/>
              <a:ext cx="2170800" cy="15433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Arial Narrow"/>
                </a:rPr>
                <a:t>Aesthetics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bomb"/>
          <p:cNvPicPr/>
          <p:nvPr/>
        </p:nvPicPr>
        <p:blipFill>
          <a:blip r:embed="rId1"/>
          <a:stretch/>
        </p:blipFill>
        <p:spPr>
          <a:xfrm rot="20856600">
            <a:off x="6095880" y="2514240"/>
            <a:ext cx="914400" cy="700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golf"/>
          <p:cNvPicPr/>
          <p:nvPr/>
        </p:nvPicPr>
        <p:blipFill>
          <a:blip r:embed="rId2"/>
          <a:stretch/>
        </p:blipFill>
        <p:spPr>
          <a:xfrm>
            <a:off x="5638680" y="3600360"/>
            <a:ext cx="1000080" cy="8366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echan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uffling, Trick-Taking, Bid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o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munition, Spaw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l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nd Traps, Water Haz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2" descr="C:\Users\MAHK\AppData\Local\Microsoft\Windows\Temporary Internet Files\Content.IE5\0DELC13B\MC900431537[1].png"/>
          <p:cNvPicPr/>
          <p:nvPr/>
        </p:nvPicPr>
        <p:blipFill>
          <a:blip r:embed="rId3"/>
          <a:stretch/>
        </p:blipFill>
        <p:spPr>
          <a:xfrm>
            <a:off x="6172200" y="1200240"/>
            <a:ext cx="18381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1001880" y="1257480"/>
            <a:ext cx="1925640" cy="11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4"/>
          <p:cNvSpPr/>
          <p:nvPr/>
        </p:nvSpPr>
        <p:spPr>
          <a:xfrm>
            <a:off x="3000240" y="2089080"/>
            <a:ext cx="2443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Line 5"/>
          <p:cNvSpPr/>
          <p:nvPr/>
        </p:nvSpPr>
        <p:spPr>
          <a:xfrm flipH="1" flipV="1">
            <a:off x="2778120" y="3588840"/>
            <a:ext cx="2665440" cy="1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Line 6"/>
          <p:cNvSpPr/>
          <p:nvPr/>
        </p:nvSpPr>
        <p:spPr>
          <a:xfrm flipH="1">
            <a:off x="2778120" y="3922560"/>
            <a:ext cx="2665440" cy="1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Line 7"/>
          <p:cNvSpPr/>
          <p:nvPr/>
        </p:nvSpPr>
        <p:spPr>
          <a:xfrm>
            <a:off x="5943600" y="268596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7" name="Picture 10" descr="therm"/>
          <p:cNvPicPr/>
          <p:nvPr/>
        </p:nvPicPr>
        <p:blipFill>
          <a:blip r:embed="rId1"/>
          <a:stretch/>
        </p:blipFill>
        <p:spPr>
          <a:xfrm>
            <a:off x="5518080" y="1368360"/>
            <a:ext cx="831960" cy="1332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control"/>
          <p:cNvPicPr/>
          <p:nvPr/>
        </p:nvPicPr>
        <p:blipFill>
          <a:blip r:embed="rId2"/>
          <a:stretch/>
        </p:blipFill>
        <p:spPr>
          <a:xfrm>
            <a:off x="5518080" y="3645000"/>
            <a:ext cx="1541520" cy="406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2" descr="cooler"/>
          <p:cNvPicPr/>
          <p:nvPr/>
        </p:nvPicPr>
        <p:blipFill>
          <a:blip r:embed="rId3"/>
          <a:stretch/>
        </p:blipFill>
        <p:spPr>
          <a:xfrm>
            <a:off x="1001880" y="3754440"/>
            <a:ext cx="1677960" cy="787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3" descr="heater"/>
          <p:cNvPicPr/>
          <p:nvPr/>
        </p:nvPicPr>
        <p:blipFill>
          <a:blip r:embed="rId4"/>
          <a:stretch/>
        </p:blipFill>
        <p:spPr>
          <a:xfrm>
            <a:off x="1001880" y="2979720"/>
            <a:ext cx="1703160" cy="795240"/>
          </a:xfrm>
          <a:prstGeom prst="rect">
            <a:avLst/>
          </a:prstGeom>
          <a:ln w="0">
            <a:noFill/>
          </a:ln>
        </p:spPr>
      </p:pic>
      <p:sp>
        <p:nvSpPr>
          <p:cNvPr id="301" name="Freeform 14"/>
          <p:cNvSpPr/>
          <p:nvPr/>
        </p:nvSpPr>
        <p:spPr>
          <a:xfrm>
            <a:off x="743040" y="2422440"/>
            <a:ext cx="258840" cy="9446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Freeform 15"/>
          <p:cNvSpPr/>
          <p:nvPr/>
        </p:nvSpPr>
        <p:spPr>
          <a:xfrm>
            <a:off x="434880" y="2144880"/>
            <a:ext cx="567000" cy="177768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ynam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533520" y="2038320"/>
            <a:ext cx="8076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ame Design Workshop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33520" y="302904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DC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2209680" y="1922400"/>
            <a:ext cx="5943600" cy="3075480"/>
            <a:chOff x="2209680" y="1922400"/>
            <a:chExt cx="5943600" cy="3075480"/>
          </a:xfrm>
        </p:grpSpPr>
        <p:graphicFrame>
          <p:nvGraphicFramePr>
            <p:cNvPr id="306" name="Object 3"/>
            <p:cNvGraphicFramePr/>
            <p:nvPr/>
          </p:nvGraphicFramePr>
          <p:xfrm>
            <a:off x="2209680" y="1922400"/>
            <a:ext cx="5943600" cy="3001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7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09680" y="1922400"/>
                      <a:ext cx="5943600" cy="300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Text Box 4"/>
            <p:cNvSpPr/>
            <p:nvPr/>
          </p:nvSpPr>
          <p:spPr>
            <a:xfrm rot="16200000">
              <a:off x="1919520" y="3074760"/>
              <a:ext cx="15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</a:rPr>
                <a:t>Chance in 36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9" name="Text Box 5"/>
            <p:cNvSpPr/>
            <p:nvPr/>
          </p:nvSpPr>
          <p:spPr>
            <a:xfrm>
              <a:off x="4701600" y="462960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</a:rPr>
                <a:t>Die roll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310" name="Picture 6" descr="dice"/>
          <p:cNvPicPr/>
          <p:nvPr/>
        </p:nvPicPr>
        <p:blipFill>
          <a:blip r:embed="rId3"/>
          <a:stretch/>
        </p:blipFill>
        <p:spPr>
          <a:xfrm>
            <a:off x="457200" y="3143160"/>
            <a:ext cx="1752480" cy="1170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ynam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533520" y="2038320"/>
            <a:ext cx="8076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sychology = Human Dynam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cep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ribution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gnitive Disso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Object 3"/>
          <p:cNvGraphicFramePr/>
          <p:nvPr/>
        </p:nvGraphicFramePr>
        <p:xfrm>
          <a:off x="2209680" y="1922400"/>
          <a:ext cx="594360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22400"/>
                    <a:ext cx="594360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7" name="Picture 6" descr="dice"/>
          <p:cNvPicPr/>
          <p:nvPr/>
        </p:nvPicPr>
        <p:blipFill>
          <a:blip r:embed="rId3"/>
          <a:stretch/>
        </p:blipFill>
        <p:spPr>
          <a:xfrm>
            <a:off x="457200" y="3143160"/>
            <a:ext cx="1752480" cy="1170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ometimes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533520" y="2038320"/>
            <a:ext cx="8076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Idea of Dynam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havior is separate from ru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e behavior can emerge from many different rul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ight Kinds of “Fun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s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ntas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rr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llow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2895480" y="4229280"/>
            <a:ext cx="5105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 example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rmulating an “Aesthetic Model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ach aesthetic go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formal defin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t criteria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t modes of fail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es as an “aesthetic compas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are often reus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al: Competi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tion: A game is competitive if players are emotionally invested in defeating each o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yers are adversar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yers want to w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u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layer feels that he can’t w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layer can’t measure his progre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2" descr="swords"/>
          <p:cNvPicPr/>
          <p:nvPr/>
        </p:nvPicPr>
        <p:blipFill>
          <a:blip r:embed="rId1"/>
          <a:stretch/>
        </p:blipFill>
        <p:spPr>
          <a:xfrm>
            <a:off x="6019920" y="2629080"/>
            <a:ext cx="1736640" cy="89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oal: Pirate Fantas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tion: A pirate fantasy conforms to the genre conventions of pirate movies, and permits the player to engage in certain kinds of anti-social pirate behavio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960" indent="-16452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960" indent="-16452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572000" y="2514600"/>
            <a:ext cx="388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7391520" y="171360"/>
            <a:ext cx="99036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4" name="Picture 10" descr="jollyroger"/>
          <p:cNvPicPr/>
          <p:nvPr/>
        </p:nvPicPr>
        <p:blipFill>
          <a:blip r:embed="rId1"/>
          <a:stretch/>
        </p:blipFill>
        <p:spPr>
          <a:xfrm>
            <a:off x="6699240" y="-6480"/>
            <a:ext cx="229860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7391520" y="171360"/>
            <a:ext cx="99036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oal: Pirate Fantas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tion: A pirate fantasy conforms to the genre conventions of pirate movies, and permits the player to engage in certain kinds of anti-social pirate behavio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ower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e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che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y upon We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960" indent="-16452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960" indent="-16452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4572000" y="2514600"/>
            <a:ext cx="388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0" descr="jollyroger"/>
          <p:cNvPicPr/>
          <p:nvPr/>
        </p:nvPicPr>
        <p:blipFill>
          <a:blip r:embed="rId1"/>
          <a:stretch/>
        </p:blipFill>
        <p:spPr>
          <a:xfrm>
            <a:off x="6699240" y="-6480"/>
            <a:ext cx="2298600" cy="12495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4724280" y="2914560"/>
            <a:ext cx="41911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Failur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tone Sans ITC TT"/>
                <a:ea typeface="ヒラギノ角ゴ Pro W3"/>
              </a:rPr>
              <a:t>Vulnerabi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tone Sans ITC TT"/>
                <a:ea typeface="ヒラギノ角ゴ Pro W3"/>
              </a:rPr>
              <a:t>Compas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tone Sans ITC TT"/>
                <a:ea typeface="ヒラギノ角ゴ Pro W3"/>
              </a:rPr>
              <a:t>Generos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1219320" y="2629080"/>
          <a:ext cx="6400800" cy="21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29080"/>
                    <a:ext cx="6400800" cy="21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al: Dra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ition: A game is dramatic if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s central conflict creates dramatic tens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ramatic tension builds towards a climax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5" descr="masks"/>
          <p:cNvPicPr/>
          <p:nvPr/>
        </p:nvPicPr>
        <p:blipFill>
          <a:blip r:embed="rId3"/>
          <a:stretch/>
        </p:blipFill>
        <p:spPr>
          <a:xfrm>
            <a:off x="6781680" y="343080"/>
            <a:ext cx="14479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bout The Workshop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ed in 20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nds-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ed on it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nded in a formal approach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nded to be open-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al: Dra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160" indent="-208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nse of uncertain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160" indent="-208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nse of inevit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160" indent="-208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nsion increases towards a clima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u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160" indent="-208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flict’s outcome is obvious (no uncertain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160" indent="-208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sense of forward progress (no inevitabili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160" indent="-208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yer doesn’t care how the conflict resolv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5" descr="masks"/>
          <p:cNvPicPr/>
          <p:nvPr/>
        </p:nvPicPr>
        <p:blipFill>
          <a:blip r:embed="rId1"/>
          <a:stretch/>
        </p:blipFill>
        <p:spPr>
          <a:xfrm>
            <a:off x="6781680" y="343080"/>
            <a:ext cx="14479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esthetic Models are an Important Too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’s hard to solve problems we can’t describ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pecially in a large group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Point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some sense, it isn’t about thi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914400" y="2000160"/>
            <a:ext cx="2171880" cy="1543320"/>
          </a:xfrm>
          <a:prstGeom prst="rect">
            <a:avLst/>
          </a:prstGeom>
          <a:solidFill>
            <a:srgbClr val="33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Mechan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295800" y="2000160"/>
            <a:ext cx="2171520" cy="154332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Dynam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5676840" y="2000160"/>
            <a:ext cx="2171880" cy="15433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Aesthet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Point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’s about thi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58" name="AutoShape 5"/>
          <p:cNvCxnSpPr/>
          <p:nvPr/>
        </p:nvCxnSpPr>
        <p:spPr>
          <a:xfrm>
            <a:off x="3098520" y="2771280"/>
            <a:ext cx="1846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</p:cxnSp>
      <p:cxnSp>
        <p:nvCxnSpPr>
          <p:cNvPr id="359" name="AutoShape 6"/>
          <p:cNvCxnSpPr/>
          <p:nvPr/>
        </p:nvCxnSpPr>
        <p:spPr>
          <a:xfrm>
            <a:off x="5479920" y="2771280"/>
            <a:ext cx="18504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</p:cxnSp>
      <p:sp>
        <p:nvSpPr>
          <p:cNvPr id="360" name="Rectangle 10"/>
          <p:cNvSpPr/>
          <p:nvPr/>
        </p:nvSpPr>
        <p:spPr>
          <a:xfrm>
            <a:off x="914400" y="2000160"/>
            <a:ext cx="2171880" cy="1543320"/>
          </a:xfrm>
          <a:prstGeom prst="rect">
            <a:avLst/>
          </a:prstGeom>
          <a:solidFill>
            <a:srgbClr val="33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3295800" y="2000160"/>
            <a:ext cx="2171520" cy="154332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5676840" y="2000160"/>
            <a:ext cx="2171880" cy="15433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Point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where game design happe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65" name="AutoShape 4"/>
          <p:cNvCxnSpPr/>
          <p:nvPr/>
        </p:nvCxnSpPr>
        <p:spPr>
          <a:xfrm>
            <a:off x="3098520" y="2771280"/>
            <a:ext cx="1846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</p:cxnSp>
      <p:cxnSp>
        <p:nvCxnSpPr>
          <p:cNvPr id="366" name="AutoShape 5"/>
          <p:cNvCxnSpPr/>
          <p:nvPr/>
        </p:nvCxnSpPr>
        <p:spPr>
          <a:xfrm>
            <a:off x="5479920" y="2771280"/>
            <a:ext cx="18504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</p:cxnSp>
      <p:sp>
        <p:nvSpPr>
          <p:cNvPr id="367" name="Rectangle 6"/>
          <p:cNvSpPr/>
          <p:nvPr/>
        </p:nvSpPr>
        <p:spPr>
          <a:xfrm>
            <a:off x="914400" y="2000160"/>
            <a:ext cx="2171880" cy="1543320"/>
          </a:xfrm>
          <a:prstGeom prst="rect">
            <a:avLst/>
          </a:prstGeom>
          <a:solidFill>
            <a:srgbClr val="33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295800" y="2000160"/>
            <a:ext cx="2171520" cy="154332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5676840" y="2000160"/>
            <a:ext cx="2171880" cy="15433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It’s NOT about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get a job as a game desig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write a design doc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re game ideas “come from”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get your game fu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use a level edi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 Other Words..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’s not about the Busines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Getting a job, pitching a game, getting fund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’s not about the Profession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Writing documents, tracking bugs, using too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’s about the Craf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Making games that are fu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7" descr="pirates"/>
          <p:cNvPicPr/>
          <p:nvPr/>
        </p:nvPicPr>
        <p:blipFill>
          <a:blip r:embed="rId1"/>
          <a:stretch/>
        </p:blipFill>
        <p:spPr>
          <a:xfrm rot="565800">
            <a:off x="6008760" y="2869920"/>
            <a:ext cx="2133360" cy="728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dice"/>
          <p:cNvPicPr/>
          <p:nvPr/>
        </p:nvPicPr>
        <p:blipFill>
          <a:blip r:embed="rId2"/>
          <a:stretch/>
        </p:blipFill>
        <p:spPr>
          <a:xfrm>
            <a:off x="4800600" y="2343240"/>
            <a:ext cx="1143000" cy="763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knight"/>
          <p:cNvPicPr/>
          <p:nvPr/>
        </p:nvPicPr>
        <p:blipFill>
          <a:blip r:embed="rId3"/>
          <a:stretch/>
        </p:blipFill>
        <p:spPr>
          <a:xfrm rot="20999400">
            <a:off x="6400800" y="1371600"/>
            <a:ext cx="689040" cy="9144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You’ll be Do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y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alyz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iqu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ify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in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chedule Over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am-6pm both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unch from 12:15-1:4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ffee breaks at 11am &amp; 4p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-3 hour design exerci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3812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Facul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657080"/>
            <a:ext cx="40384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rew Fi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The Pokémon Company Internationa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nathan Ham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Crystal Dynamics/Eido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eb Have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Goog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t Hoc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LucasAr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bin Hunic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thatgamecompan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Content Placeholder 14"/>
          <p:cNvSpPr/>
          <p:nvPr/>
        </p:nvSpPr>
        <p:spPr>
          <a:xfrm>
            <a:off x="4800600" y="1200240"/>
            <a:ext cx="4038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Frank Lant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Area/Code / Zynga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Marc LeBlan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lectrified Games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Andrew Lek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lectrified Games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Steve Libran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A/Maxis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Art M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A Bit Luck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Tim Stellma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4mm Games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 Few Ground Rul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ease stay for both day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vE, not Pv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ve the “meta-discussion” for the very en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urn the laptop of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ast but not least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22:56:43Z</dcterms:created>
  <dc:creator>Jamil Moledina</dc:creator>
  <dc:description/>
  <dc:language>en-US</dc:language>
  <cp:lastModifiedBy>MAHK</cp:lastModifiedBy>
  <cp:lastPrinted>1904-01-01T00:00:00Z</cp:lastPrinted>
  <dcterms:modified xsi:type="dcterms:W3CDTF">2011-02-26T22:10:37Z</dcterms:modified>
  <cp:revision>81</cp:revision>
  <dc:subject/>
  <dc:title>GDC 2005</dc:title>
</cp:coreProperties>
</file>