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AF02-EB77-4D51-AE23-8C7E0B2AF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art where they sleep in the bed they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roken up into multiple slides for effect only.  Attendees shouldn’t feel required to tackle the parts of this problem in the prescribed order; if they want to work on the 4-player problem before the 3-player problem, they should feel free to.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is the last slide for day 1.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ly obviously, this is the first slide for day 2.  You may need to manage this process a little.   Spend about half an hour o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cit results from each group.  Discuss.  Give each group 3-4 minutes.  About 20 minutes total.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pretty much impossible to solve this problem without increasing the size of the “state space.”  The point here is that having more state space helps the </a:t>
            </a:r>
            <a:r>
              <a:rPr b="0" i="1" lang="en-US" sz="1200" spc="-1" strike="noStrike">
                <a:solidFill>
                  <a:srgbClr val="000000"/>
                </a:solidFill>
                <a:latin typeface="Times New Roman"/>
              </a:rPr>
              <a:t>designer </a:t>
            </a:r>
            <a:r>
              <a:rPr b="0" lang="en-US" sz="1200" spc="-1" strike="noStrike">
                <a:solidFill>
                  <a:srgbClr val="000000"/>
                </a:solidFill>
                <a:latin typeface="Times New Roman"/>
              </a:rPr>
              <a:t>by giving him more room to work.  A good strategy for this exercise is to increase the state space before even thinking about adding players.  (e.g. Use a larger board, etc.)   How many groups actually took this strate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pend more than 5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n’t have any expected results here.  Though, the massive asymmetry present in 3 musketeers is also present in single-player digital games, so that’s a simila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rt of an obligatory “tie it back to digital media” question.  If it’s not bearing any fruit, move 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ie-back to digital media.  Move on if no one has any comment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ttendees a good half hour or so to play.  Let everyone get a feel for the gam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discussion as time permits.  Try to tie it back to digital ga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ut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observe that the game’s mechanics do a good job of conveying its subject matter without much in the way of visual or textual c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welve (theoretically, I don’t know if there’s an actual board state that has 12 moves, but it seems like there ough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on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wo, once you take into account the rotational and translational symmetery of the 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t most Th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usketeer player loses, it must be because he has no choice on his last 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larify, the “choices” is the number of </a:t>
            </a:r>
            <a:r>
              <a:rPr b="0" i="1" lang="en-US" sz="1200" spc="-1" strike="noStrike">
                <a:solidFill>
                  <a:srgbClr val="000000"/>
                </a:solidFill>
                <a:latin typeface="Times New Roman"/>
              </a:rPr>
              <a:t>musketeer</a:t>
            </a:r>
            <a:r>
              <a:rPr b="0" lang="en-US" sz="1200" spc="-1" strike="noStrike">
                <a:solidFill>
                  <a:srgbClr val="000000"/>
                </a:solidFill>
                <a:latin typeface="Times New Roman"/>
              </a:rPr>
              <a:t> choices, just to keep things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starts at 2, gets bigger, peaks at some point, and then goes back down to around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hat this curve matches the canonical “dramatic structure” curve, and with good reason:  Dramatic tension requires </a:t>
            </a:r>
            <a:r>
              <a:rPr b="0" i="1" lang="en-US" sz="1200" spc="-1" strike="noStrike">
                <a:solidFill>
                  <a:srgbClr val="000000"/>
                </a:solidFill>
                <a:latin typeface="Times New Roman"/>
              </a:rPr>
              <a:t>uncertainty </a:t>
            </a:r>
            <a:r>
              <a:rPr b="0" lang="en-US" sz="1200" spc="-1" strike="noStrike">
                <a:solidFill>
                  <a:srgbClr val="000000"/>
                </a:solidFill>
                <a:latin typeface="Times New Roman"/>
              </a:rPr>
              <a:t>and more choices permits more uncertainty (you can have choices without uncertainty, but you can’t have uncertainty without cho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A42D2-ECDF-43D6-A1A5-A80253F7D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709B2-DB78-4663-B465-04FD5B907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6AEBA-CCCF-476A-ADB3-FCDDF98DE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D4EBA-ACF5-4A30-910D-0F86C2045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B8724-9566-4131-B6BD-EF8EA1C7F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53A3D-3CFF-417A-AC13-0CE3C424A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1A0BA-963F-4792-8D14-FE9BE286A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A626C-B855-4F90-86A0-1CC2CFA49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5D830-5269-4B52-B7E3-03CF97EAC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D8F7E-D03E-47CD-9519-85C4BDFF9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D541-3772-4A91-9C54-68685B079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2579-444D-448E-98C6-B393FDA02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2313-63AB-423F-BFA5-4A1AED04FF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ree Musketeers</a:t>
            </a:r>
            <a:endParaRPr b="0" lang="en-US" sz="4400" spc="-1" strike="noStrike">
              <a:solidFill>
                <a:srgbClr val="ffff00"/>
              </a:solidFill>
              <a:latin typeface="Times New Roman"/>
            </a:endParaRPr>
          </a:p>
        </p:txBody>
      </p:sp>
      <p:sp>
        <p:nvSpPr>
          <p:cNvPr id="49" name=""/>
          <p:cNvSpPr/>
          <p:nvPr/>
        </p:nvSpPr>
        <p:spPr>
          <a:xfrm>
            <a:off x="2973600" y="5562720"/>
            <a:ext cx="3196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me Design Worksho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DC 200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ile remaining faithful to the aesthetic qualities we identified in the breakdown:</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ile remaining faithful to the aesthetic qualities we identified in the breakdow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3 player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ile remaining faithful to the aesthetic qualities we identified in the breakdow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3 playe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4 player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ile remaining faithful to the aesthetic qualities we identified in the breakdow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3 playe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rules to accommodate 4 playe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you come up with a single rules set that accommodates 2-4 players?</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85800" y="990720"/>
            <a:ext cx="77724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on’t show up tomorrow without a design that you can playte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If you don’t come up with something this afternoon, then consider it your homework for tonigh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Feel free to take supplies with you, but PLEASE return them.  We need th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lcome Back!</a:t>
            </a:r>
            <a:endParaRPr b="0" lang="en-US" sz="4400" spc="-1" strike="noStrike">
              <a:solidFill>
                <a:srgbClr val="ffff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some time to playtest your desig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ime permits, share your designs with another group.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compare solutions.  What different approaches did we tak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any possible board positions does your game hav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it compare to the original g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37"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the problem of adding multiplayer  capability to a single-player digital ga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this exercise simila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it differ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bout converting a multiplayer game into a </a:t>
            </a:r>
            <a:r>
              <a:rPr b="0" i="1" lang="en-US" sz="3200" spc="-1" strike="noStrike">
                <a:solidFill>
                  <a:srgbClr val="ffffff"/>
                </a:solidFill>
                <a:latin typeface="Times New Roman"/>
              </a:rPr>
              <a:t>massively </a:t>
            </a:r>
            <a:r>
              <a:rPr b="0" lang="en-US" sz="3200" spc="-1" strike="noStrike">
                <a:solidFill>
                  <a:srgbClr val="ffffff"/>
                </a:solidFill>
                <a:latin typeface="Times New Roman"/>
              </a:rPr>
              <a:t>multiplayer gam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ree Musketeers were an online game, how might your solutions to the exercise chang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les for Three Musketeers</a:t>
            </a:r>
            <a:endParaRPr b="0" lang="en-US" sz="4400" spc="-1" strike="noStrike">
              <a:solidFill>
                <a:srgbClr val="ffff00"/>
              </a:solidFill>
              <a:latin typeface="Times New Roman"/>
            </a:endParaRPr>
          </a:p>
        </p:txBody>
      </p:sp>
      <p:sp>
        <p:nvSpPr>
          <p:cNvPr id="51" name="PlaceHolder 2"/>
          <p:cNvSpPr>
            <a:spLocks noGrp="1"/>
          </p:cNvSpPr>
          <p:nvPr>
            <p:ph/>
          </p:nvPr>
        </p:nvSpPr>
        <p:spPr>
          <a:xfrm>
            <a:off x="380520" y="1447920"/>
            <a:ext cx="57150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yers take turns moving one of their pieces.  No diagonal mov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keteers move by capturing a nearby enem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dinal’s men move to a nearby empty spa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dinal wins if the Musketeers are in the same row or colum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keteers win if they cannot move.</a:t>
            </a:r>
            <a:endParaRPr b="0" lang="en-US" sz="2800" spc="-1" strike="noStrike">
              <a:solidFill>
                <a:srgbClr val="ffffff"/>
              </a:solidFill>
              <a:latin typeface="Times New Roman"/>
            </a:endParaRPr>
          </a:p>
        </p:txBody>
      </p:sp>
      <p:grpSp>
        <p:nvGrpSpPr>
          <p:cNvPr id="52" name=""/>
          <p:cNvGrpSpPr/>
          <p:nvPr/>
        </p:nvGrpSpPr>
        <p:grpSpPr>
          <a:xfrm>
            <a:off x="6248520" y="2666880"/>
            <a:ext cx="2280960" cy="2281320"/>
            <a:chOff x="6248520" y="2666880"/>
            <a:chExt cx="2280960" cy="2281320"/>
          </a:xfrm>
        </p:grpSpPr>
        <p:sp>
          <p:nvSpPr>
            <p:cNvPr id="53" name=""/>
            <p:cNvSpPr/>
            <p:nvPr/>
          </p:nvSpPr>
          <p:spPr>
            <a:xfrm>
              <a:off x="624852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670464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6076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761724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8073360" y="26668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4852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670464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716076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761724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8073360" y="31230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624852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670464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16076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761724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8073360" y="35794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624852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70464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16076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1724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8073360" y="403560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24852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670464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716076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61724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8073360" y="4492080"/>
              <a:ext cx="456120" cy="456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218000" y="45489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74120" y="45489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8130240" y="45489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61520" y="45489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6305400" y="4548960"/>
              <a:ext cx="342000" cy="34200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21800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7412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813024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676152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6305400" y="40928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218000" y="3636360"/>
              <a:ext cx="342000" cy="34200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74120" y="36363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8130240" y="36363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6761520" y="36363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305400" y="36363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21800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7412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13024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76152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6305400" y="318024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218000" y="27237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74120" y="27237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130240" y="2723760"/>
              <a:ext cx="342000" cy="34200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6761520" y="27237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305400" y="2723760"/>
              <a:ext cx="342000" cy="34200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3" name=""/>
          <p:cNvSpPr/>
          <p:nvPr/>
        </p:nvSpPr>
        <p:spPr>
          <a:xfrm>
            <a:off x="6400080" y="2057400"/>
            <a:ext cx="19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ing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y Final Observation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servation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esthetic Breakdown</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reak down the fun; express the game’s aesthetic virtues in terms of goals and model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1.  What is the maximum number of choices the musketeer player can have on his tur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1.  What is the maximum number of choices the musketeer player can have on his tur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2.  How many first moves are the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1.  What is the maximum number of choices the musketeer player can have on his tur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2.  How many first moves are there?</a:t>
            </a:r>
            <a:endParaRPr b="0" lang="en-US" sz="3200" spc="-1" strike="noStrike">
              <a:solidFill>
                <a:srgbClr val="ffffff"/>
              </a:solidFill>
              <a:latin typeface="Times New Roman"/>
            </a:endParaRPr>
          </a:p>
        </p:txBody>
      </p:sp>
      <p:grpSp>
        <p:nvGrpSpPr>
          <p:cNvPr id="113" name=""/>
          <p:cNvGrpSpPr/>
          <p:nvPr/>
        </p:nvGrpSpPr>
        <p:grpSpPr>
          <a:xfrm>
            <a:off x="1905120" y="3886200"/>
            <a:ext cx="2280960" cy="2281320"/>
            <a:chOff x="1905120" y="3886200"/>
            <a:chExt cx="2280960" cy="2281320"/>
          </a:xfrm>
        </p:grpSpPr>
        <p:sp>
          <p:nvSpPr>
            <p:cNvPr id="114" name=""/>
            <p:cNvSpPr/>
            <p:nvPr/>
          </p:nvSpPr>
          <p:spPr>
            <a:xfrm>
              <a:off x="1905120" y="388620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2360520" y="388620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2817720" y="3886200"/>
              <a:ext cx="45576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273480" y="388620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3730680" y="388620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905120" y="43419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360520" y="43419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817720" y="4341960"/>
              <a:ext cx="45576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273480" y="43419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730680" y="43419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905120" y="4799160"/>
              <a:ext cx="4554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2360520" y="4799160"/>
              <a:ext cx="4572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817720" y="4799160"/>
              <a:ext cx="45576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273480" y="4799160"/>
              <a:ext cx="4572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730680" y="4799160"/>
              <a:ext cx="4554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905120" y="52545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360520" y="52545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817720" y="5254560"/>
              <a:ext cx="45576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273480" y="52545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730680" y="52545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905120" y="571176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360520" y="571176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817720" y="5711760"/>
              <a:ext cx="45576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73480" y="571176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730680" y="571176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874960" y="576900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3330720" y="576900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787920" y="576900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417760" y="576900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962000" y="5769000"/>
              <a:ext cx="34164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874960" y="5311800"/>
              <a:ext cx="3412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330720" y="5311800"/>
              <a:ext cx="34272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787920" y="5311800"/>
              <a:ext cx="3412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417760" y="5311800"/>
              <a:ext cx="3430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962000" y="5311800"/>
              <a:ext cx="34164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874960" y="4856040"/>
              <a:ext cx="34128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330720" y="485604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787920" y="485604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417760" y="485604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962000" y="4856040"/>
              <a:ext cx="34164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874960" y="4398840"/>
              <a:ext cx="3412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330720" y="4398840"/>
              <a:ext cx="34272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417760" y="4398840"/>
              <a:ext cx="3430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62000" y="4398840"/>
              <a:ext cx="34164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74960" y="394344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330720" y="394344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787920" y="4398840"/>
              <a:ext cx="34128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417760" y="394344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962000" y="3943440"/>
              <a:ext cx="34164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3" name=""/>
          <p:cNvGrpSpPr/>
          <p:nvPr/>
        </p:nvGrpSpPr>
        <p:grpSpPr>
          <a:xfrm>
            <a:off x="4648320" y="3886200"/>
            <a:ext cx="2280960" cy="2281320"/>
            <a:chOff x="4648320" y="3886200"/>
            <a:chExt cx="2280960" cy="2281320"/>
          </a:xfrm>
        </p:grpSpPr>
        <p:sp>
          <p:nvSpPr>
            <p:cNvPr id="164" name=""/>
            <p:cNvSpPr/>
            <p:nvPr/>
          </p:nvSpPr>
          <p:spPr>
            <a:xfrm>
              <a:off x="4648320" y="388620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103720" y="388620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560920" y="3886200"/>
              <a:ext cx="45576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016680" y="388620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473880" y="388620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648320" y="43419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103720" y="43419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560920" y="4341960"/>
              <a:ext cx="45576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016680" y="43419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473880" y="43419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648320" y="4799160"/>
              <a:ext cx="4554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103720" y="4799160"/>
              <a:ext cx="4572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560920" y="4799160"/>
              <a:ext cx="45576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016680" y="4799160"/>
              <a:ext cx="4572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473880" y="4799160"/>
              <a:ext cx="455400" cy="4554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648320" y="52545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103720" y="52545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560920" y="5254560"/>
              <a:ext cx="45576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016680" y="5254560"/>
              <a:ext cx="4572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473880" y="5254560"/>
              <a:ext cx="455400" cy="4572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648320" y="571176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103720" y="571176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560920" y="5711760"/>
              <a:ext cx="45576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016680" y="5711760"/>
              <a:ext cx="4572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473880" y="5711760"/>
              <a:ext cx="455400" cy="45576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618160" y="576900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073920" y="576900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531120" y="576900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160960" y="576900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4705200" y="5769000"/>
              <a:ext cx="34164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618160" y="5311800"/>
              <a:ext cx="3412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073920" y="5311800"/>
              <a:ext cx="34272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6531120" y="5311800"/>
              <a:ext cx="3412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160960" y="5311800"/>
              <a:ext cx="34308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705200" y="5311800"/>
              <a:ext cx="341640" cy="34272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073920" y="4856040"/>
              <a:ext cx="34128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6531120" y="485604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160960" y="485604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4705200" y="4856040"/>
              <a:ext cx="34164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618160" y="4398840"/>
              <a:ext cx="3412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073920" y="4398840"/>
              <a:ext cx="34272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531120" y="4398840"/>
              <a:ext cx="3412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160960" y="4398840"/>
              <a:ext cx="34308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4705200" y="4398840"/>
              <a:ext cx="341640" cy="3430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618160" y="3943440"/>
              <a:ext cx="3412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6073920" y="3943440"/>
              <a:ext cx="34272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531120" y="3943440"/>
              <a:ext cx="341280" cy="34128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160960" y="3943440"/>
              <a:ext cx="34308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4705200" y="3943440"/>
              <a:ext cx="341640" cy="341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1.  What is the maximum number of choices the musketeer player can have on his tur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2.  How many first moves are ther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3.  How many last moves are ther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 Questions</a:t>
            </a:r>
            <a:endParaRPr b="0" lang="en-US" sz="4400" spc="-1" strike="noStrike">
              <a:solidFill>
                <a:srgbClr val="ffff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at does this graph look lik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
          <p:cNvSpPr/>
          <p:nvPr/>
        </p:nvSpPr>
        <p:spPr>
          <a:xfrm>
            <a:off x="1371600" y="2895480"/>
            <a:ext cx="0" cy="2819520"/>
          </a:xfrm>
          <a:prstGeom prst="line">
            <a:avLst/>
          </a:prstGeom>
          <a:ln w="936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371600" y="5715000"/>
            <a:ext cx="609588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794040" y="5756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ffffff"/>
              </a:solidFill>
              <a:latin typeface="Times New Roman"/>
            </a:endParaRPr>
          </a:p>
        </p:txBody>
      </p:sp>
      <p:sp>
        <p:nvSpPr>
          <p:cNvPr id="220" name=""/>
          <p:cNvSpPr/>
          <p:nvPr/>
        </p:nvSpPr>
        <p:spPr>
          <a:xfrm rot="16200000">
            <a:off x="560880" y="4068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o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7T06:53:24Z</dcterms:created>
  <dc:creator>mleblanc</dc:creator>
  <dc:description/>
  <dc:language>en-US</dc:language>
  <cp:lastModifiedBy>Marc LeBlanc</cp:lastModifiedBy>
  <dcterms:modified xsi:type="dcterms:W3CDTF">2002-03-03T09:06:31Z</dcterms:modified>
  <cp:revision>2</cp:revision>
  <dc:subject/>
  <dc:title>Three Musketeers</dc:title>
</cp:coreProperties>
</file>