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66CA-193B-4532-AB21-425E9D846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have been noticeably changed from last year.   The changes are mostly to accomodate the format and to homogenize the style a little bi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aesthetic qualities from the breakdown are </a:t>
            </a:r>
            <a:r>
              <a:rPr b="0" i="1" lang="en-US" sz="1200" spc="-1" strike="noStrike">
                <a:solidFill>
                  <a:srgbClr val="000000"/>
                </a:solidFill>
                <a:latin typeface="Times New Roman"/>
              </a:rPr>
              <a:t>goals.  </a:t>
            </a:r>
            <a:r>
              <a:rPr b="0" lang="en-US" sz="1200" spc="-1" strike="noStrike">
                <a:solidFill>
                  <a:srgbClr val="000000"/>
                </a:solidFill>
                <a:latin typeface="Times New Roman"/>
              </a:rPr>
              <a:t>Conveying their subject matter is also a goal.  Maybe they should come up with a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ncourage people to limit their ambition; don’t just rewrite the rules from scratch.  Justify your changes in terms of the goal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is the last slide for part 1.   Because of the way the lunch break works,  part one is shorter this tim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 is two hours.  Feel  free to give them a whole hour of design time, followed by half an hour of playte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cit results from each group.  Discuss.  Give each group 3-4 minutes.  About 20 minutes tota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ermi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discussion as time permits.  Try to tie it back to digital g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summary.  The real rules are on the hand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for about half an h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people a few minutes to discuss this and choose before moving on to the rest of the exercies.  Make sure people don’t paint themselves into too much of a corner by choosing a really weird subjec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roken up into three slides for effect only.  Just burn right through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DD4D8-8AB5-4AF7-B26C-E68A187CF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B903-2C45-453A-9940-6D8AE70D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C6186-7CBE-42AC-BB35-9860552AD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8FEB1-D53C-496B-8AEA-28839BF5F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FD5A-9E53-434C-A02F-2D0540743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B414-7160-49B6-81C6-1318E29A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4BA0-33E6-403D-A0BD-F7719D52F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B2B1-5488-42BB-97F7-71B4DD11A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4FAF-B6E7-48B3-B0D6-7FE8171A8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7960-D38B-4596-8BBB-D7BB525B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C0D0-02D6-4563-8C28-759631486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7F63-E805-4A7B-9A3B-3512217FE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0076-8149-4173-9418-07D9A067E9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SiSSYFiGHT 2K2</a:t>
            </a:r>
            <a:endParaRPr b="0" lang="en-US" sz="6000" spc="-1" strike="noStrike">
              <a:solidFill>
                <a:srgbClr val="ffff00"/>
              </a:solidFill>
              <a:latin typeface="Times New Roman"/>
            </a:endParaRPr>
          </a:p>
        </p:txBody>
      </p:sp>
      <p:sp>
        <p:nvSpPr>
          <p:cNvPr id="49" name=""/>
          <p:cNvSpPr/>
          <p:nvPr/>
        </p:nvSpPr>
        <p:spPr>
          <a:xfrm>
            <a:off x="2973600" y="5562720"/>
            <a:ext cx="319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 Worksho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DC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6"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a:t>
            </a:r>
            <a:r>
              <a:rPr b="0" i="1" lang="en-US" sz="3200" spc="-1" strike="noStrike">
                <a:solidFill>
                  <a:srgbClr val="ffffff"/>
                </a:solidFill>
                <a:latin typeface="Times New Roman"/>
              </a:rPr>
              <a:t>rules </a:t>
            </a:r>
            <a:r>
              <a:rPr b="0" lang="en-US" sz="3200" spc="-1" strike="noStrike">
                <a:solidFill>
                  <a:srgbClr val="ffffff"/>
                </a:solidFill>
                <a:latin typeface="Times New Roman"/>
              </a:rPr>
              <a:t>of the game be changed to best support your fictio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e will reconvene after lun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gain, feel free to take supplies with you, but PLEASE return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lcome Back!</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ish your desig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some time to playte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ime permits, share your designs with another grou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compare solutions.  What different approaches did we ta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ight your designs have to change if you were to implement them to digital med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Final 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51"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SSYFiGHT simulates a schoolyard fight between little girls. Each girls begins with 10 Self-Esteem chips the and goal of the game is to reduce your opponents self-esteem to zero.  When there are only one or two players left with any self-esteem, they win the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player starts with: </a:t>
            </a:r>
            <a:endParaRPr b="0" lang="en-US" sz="32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hree “Action”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Six “Target” card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Ten chips. </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one should pick one of the six colo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Round:</a:t>
            </a:r>
            <a:endParaRPr b="0" lang="en-US" sz="32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picks an “Action” and a “Target” in secre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eal cards simultaneously, then resolve actions.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communication must be public. </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run out of chips, you’re out.</a:t>
            </a:r>
            <a:endParaRPr b="0" lang="en-US" sz="2800" spc="-1" strike="noStrike">
              <a:solidFill>
                <a:srgbClr val="ffffff"/>
              </a:solidFill>
              <a:latin typeface="Times New Roman"/>
            </a:endParaRPr>
          </a:p>
          <a:p>
            <a:pPr marL="343080" indent="-3430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one or two people are left, they wi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esthetic Breakdown</a:t>
            </a:r>
            <a:endParaRPr b="0" lang="en-US" sz="4400" spc="-1" strike="noStrike">
              <a:solidFill>
                <a:srgbClr val="ffff00"/>
              </a:solidFill>
              <a:latin typeface="Times New Roman"/>
            </a:endParaRPr>
          </a:p>
        </p:txBody>
      </p:sp>
      <p:sp>
        <p:nvSpPr>
          <p:cNvPr id="5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reak down the fun; express the game’s aesthetic virtues in terms of goals and model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0"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2"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64" name="PlaceHolder 2"/>
          <p:cNvSpPr>
            <a:spLocks noGrp="1"/>
          </p:cNvSpPr>
          <p:nvPr>
            <p:ph/>
          </p:nvPr>
        </p:nvSpPr>
        <p:spPr>
          <a:xfrm>
            <a:off x="6854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fictional genre and/or setting that might fit this gam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the game to your chosen subject mat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in mind the aesthetic qualities we identified in the breakdow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Marc LeBlanc</cp:lastModifiedBy>
  <dcterms:modified xsi:type="dcterms:W3CDTF">2002-03-05T09:49:58Z</dcterms:modified>
  <cp:revision>55</cp:revision>
  <dc:subject/>
  <dc:title>Ten Point Five</dc:title>
</cp:coreProperties>
</file>