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9E7-77A3-44E4-B3A1-C024ED88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9B3-B3DD-43C4-8B33-8FFCBE9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79F-22F1-4CD6-931B-3A884037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4E3-D494-4B47-8967-1974791B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5B4-53B5-4F14-92DB-16935B6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D07-D005-4E14-96AC-41AFCB3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D8C-89C0-41B0-ABD5-5816076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E07-0C98-457F-8E51-55D4C0D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234-86CE-47DC-BA24-A7C3B46B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ABD-FBA6-4C81-B672-BDE55EE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B16-8897-4BED-91EE-E2305CD8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0DC-B814-4F12-AFA8-F6521B2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F4E-F854-4257-9468-42EAAF9CB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 this thing 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a formal appro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mean by 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uning: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on’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ea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 tw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ddling with knob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w games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533840" y="2857320"/>
            <a:ext cx="1219320" cy="14475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819520"/>
            <a:ext cx="3962160" cy="2133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809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81" idx="3"/>
            <a:endCxn id="78" idx="1"/>
          </p:cNvCxnSpPr>
          <p:nvPr/>
        </p:nvCxnSpPr>
        <p:spPr>
          <a:xfrm>
            <a:off x="3886200" y="38858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715000" y="3657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5" idx="3"/>
          </p:cNvCxnSpPr>
          <p:nvPr/>
        </p:nvCxnSpPr>
        <p:spPr>
          <a:xfrm flipH="1">
            <a:off x="3885480" y="3733560"/>
            <a:ext cx="1981800" cy="656280"/>
          </a:xfrm>
          <a:prstGeom prst="bentConnector3">
            <a:avLst>
              <a:gd name="adj1" fmla="val -115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6" idx="3"/>
            <a:endCxn id="79" idx="1"/>
          </p:cNvCxnSpPr>
          <p:nvPr/>
        </p:nvCxnSpPr>
        <p:spPr>
          <a:xfrm>
            <a:off x="2133720" y="335232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  <a:endCxn id="87" idx="1"/>
          </p:cNvCxnSpPr>
          <p:nvPr/>
        </p:nvCxnSpPr>
        <p:spPr>
          <a:xfrm>
            <a:off x="5866920" y="342864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90920" y="3657600"/>
            <a:ext cx="1295280" cy="914400"/>
            <a:chOff x="2590920" y="3657600"/>
            <a:chExt cx="1295280" cy="914400"/>
          </a:xfrm>
        </p:grpSpPr>
        <p:sp>
          <p:nvSpPr>
            <p:cNvPr id="91" name=""/>
            <p:cNvSpPr/>
            <p:nvPr/>
          </p:nvSpPr>
          <p:spPr>
            <a:xfrm>
              <a:off x="2590920" y="3657600"/>
              <a:ext cx="129528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160" y="3840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560" y="429732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560" y="3810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193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334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“State Machine”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rigorously define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odel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tool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our “game design lense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formal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ing Your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inds of “fun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you want your players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s of entertainm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your game prov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uns and Ad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and Tuning Worksh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 “MAHK” LeBla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ight Kinds of "Fun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 on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games serve multiple purp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egments of an audience have different tas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ing the Form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games accomplish our goa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T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a game’s rules shape its “behavior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 “Aesthet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gorous definition of an aesthetic go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s the question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How do games achieve this goal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s as an “aesthetic compa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s the possible “failure mode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are advers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have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ngoing emotional invest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defeating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feels that he can’t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can’t measure his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: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workshop high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the facu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Realistic Flight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Models: Our flight dynamic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tch a mathematical formula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pass our “realism checklist,”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resident pilot thinks they a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-intuitive system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central conflict creat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amatic 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matic tension builds toward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im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3657600"/>
          <a:ext cx="64008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57600"/>
                    <a:ext cx="64008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ten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lict’s outcome is obviou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e of forward progres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sion does not increase towards a cli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 “Formal Design Too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rmula or abstr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a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di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havior of a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Random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model of 2d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256392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6392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rot="16200000">
            <a:off x="1310040" y="4161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hance in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88160" y="6172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e r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eedback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7400" y="61722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166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167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in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 our go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out our game’s fla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our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Too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 our game’s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kind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possible re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Models and Tool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e 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exist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ields: Literature, Psychology, Engineer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own exper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Goo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and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our models and tools to b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(i.e. well-defin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widely applicabl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n (i.e. known to wor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 any given game, we expect to use several different abstractions, not one big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From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, we re-evalu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models and to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assum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times we need to revise our own thinking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I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its second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ands-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ed in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ppro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ded to be open-e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 your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ze and Revise with the help of Models and Too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ing Forward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hope the future brings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ch aesthetic vocabul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atalog of formal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of well-known techn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bstract Design Tool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ime for Coffee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sthetic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, “Breakin’ Down the 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ist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and express its merits in terms of Aesthetic Goals and Mode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ing (Twitchy, Tactic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ochistic (“Tidiness”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et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For each goal in our list, formulate a model.  Also think about failure mod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game to analyze.  Here are some sugges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004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-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of Emp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32004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y Haw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o 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ppa the Ra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FL 2K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Don’t Know J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Generate a list of “goals” that describe the “fun” of our ga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For each goal in our list, formulate a model.  Also think about failure mod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n’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“indust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design “professi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the early stages of game desig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ne-way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’ll be Do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Ground 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attend the whole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pecific.  Get down to the detai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e, Share, and Encour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the “meta-discussion” for the very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shop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Exer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ms: Regency I, Crystal, Ga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ing the Facul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Lea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stin Gros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Lan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l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 Ferm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in Hunic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w Le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 Stellm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 Zimme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Marc "MAHK" LeBlanc</cp:lastModifiedBy>
  <dcterms:modified xsi:type="dcterms:W3CDTF">2002-03-19T16:19:44Z</dcterms:modified>
  <cp:revision>15</cp:revision>
  <dc:subject/>
  <dc:title>Game Design and Tuning Workshop</dc:title>
</cp:coreProperties>
</file>