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B94-0FFB-4C04-8681-ED42D55D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2D6-9AD6-4686-BE22-9C28958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1BA-2319-4659-A7AD-F89331C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F4C-31DD-4319-BD66-66A345A8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677-10AF-4B9A-8C38-EEE2D10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8F3-62B8-4C97-8252-CBAF9F4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466-A880-45CB-8AC1-357DE33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F95-27D1-4EA3-A4AD-D1900D87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FE8-F4AB-44DF-BE56-FA3D763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507-779F-4E43-A45F-70FF3D3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C34-0B9F-4D1B-8BD8-9C465B8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B87-9B53-466C-B64A-4D91AD9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440-586C-44A1-8840-C05DBD23B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and Tuning Worksh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 “MAHK” LeBl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ea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tw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dling with knob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View games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3"/>
            <a:endCxn id="74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3"/>
            <a:endCxn id="81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75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9" idx="3"/>
            <a:endCxn id="83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86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87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5334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“State Machine”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Apply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formal model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models are “l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ing Your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inds of “fun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you want your players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s of entertain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your game prov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Example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y; Fantasy; Simulation; Exploration; Discovery; Drama; Tension; Self-Expression; Challenges; Rewards; Goals; Planning; Problem Solving; Visual Beauty; Aural Beauty; Tactile Beauty; Socialization; Competition;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 on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games serve multiple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egments of an audience have different ta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 Formal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games accomplish our go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a game’s rules shape its “behavio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 “Aesthet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gorous definition of an aesthetic go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s the questi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How do games achieve this goal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s as an “aesthetic compa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identify possible “failure mode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are advers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have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going emotional invest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defeating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feels that he can’t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can’t measure his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workshop high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the facu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Realistic Flight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Models: Our flight dynamic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tch a mathematical formula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pass our “realism checklist,”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resident pilot thinks they 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-intuitive system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central conflict creat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amatic 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matic tension builds toward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657600"/>
          <a:ext cx="64008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64008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lict’s outcome is obviou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e of forward progres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does not increase towards a cli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Dynam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mula or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a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di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behavior of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Random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eedback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7400" y="61722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138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in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our prog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out our game’s fla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 success and fail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kind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possible rev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Good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our models to b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(i.e. well-defi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widely applicabl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n (i.e. known to wor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expect to use several different models, not one big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Models Come 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exist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ields: Literature, Psychology, Engineer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own exper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, Revisi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I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of its k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ands-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ppro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be open-e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, we re-evalu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assum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times we need to revise our own thinking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ing Forward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hope the future brings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ch aesthetic vocabul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atalog of formal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for applying dynamic models to aesthetic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bstract Design Tool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y-Aim-F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have 3 cho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some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your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the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y-Aim-F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get shot, you lose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hoot yourself and someone else also shoots you, you wi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hoot someone who shot himself, you 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n’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“indust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design “professi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the early stages of game desig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ne-way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’ll be Do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Ground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attend the whole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pecific.  Get down to the detai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e, Share, and Encour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“meta-discussion” for the very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ing the Facul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Lea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tin Gros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Zimme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l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g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 Costiky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aff E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ard Gar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Le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mean by 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uning: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Marc "MAHK" LeBlanc</cp:lastModifiedBy>
  <dcterms:modified xsi:type="dcterms:W3CDTF">2001-03-19T23:15:04Z</dcterms:modified>
  <cp:revision>18</cp:revision>
  <dc:subject/>
  <dc:title>Game Design and Tuning Workshop</dc:title>
</cp:coreProperties>
</file>