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627-7053-4BBD-8D96-CAEE1210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9CB-A3DE-476D-98C2-D13FEABF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F17-564F-48D2-9061-5506177F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EA2-BB53-47ED-A833-1344AC96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23F-4BD4-47AD-B302-F33BC270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927-9C7B-4162-9516-53E7BF6C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0FA-5580-4363-8159-76B226C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AF8-6325-4782-8662-DF7F306B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F91-F183-447F-9088-D251EFE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9EC-3099-4F85-B0F2-B8828E5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204-F6DD-4B4E-B3E2-EE8F6E4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0AB-E821-4A8E-887F-8578981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F97B-C5C2-4D40-8921-25C03AFDA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Foam Komba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24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REU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Look into my ey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onefreud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58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modify the rules of the game so that the three characters play differently, each in a way that matches their fiction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l free to customize game equipment with the materials at ha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you alter the rules, keep the aesthetic goals we identified in m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eep the characters balanced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you make it possible for any player to play any charac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exercise apply to digital gam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yers try to hit each other with foam boffers.  A referee judges hits.  A scorekeeper keeps sco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rso hits count for 2 points.  Limb hits count for 1 point.  Head hits don’t count.  Don’t go for the head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any legal hit, play stops and Kombatants return to starting plac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a player goes out of bounds, the ref calls time out and the players move back in bound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tact between players is not allowed.  If a player does anything dangerous, the ref can call time out and penalize the player 1 point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n a player has at least 5 points, he or she win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Play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Your Impression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Your Impression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aesthetic goals for this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the Foam Kombat dev t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am Kombat is designed as an LBE to be installed at a popular theme hotel in Las Ve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e to a lucrative licensing deal, your game now has three main characters who compete as gladia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81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AR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Let the class struggle commence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marx" descr="Britaninca Online --- Karl Marx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ARW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Gill Sans MT"/>
              </a:rPr>
              <a:t>real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urviv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905120"/>
          <a:ext cx="235584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23558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Unknown User</cp:lastModifiedBy>
  <dcterms:modified xsi:type="dcterms:W3CDTF">2001-03-17T22:21:51Z</dcterms:modified>
  <cp:revision>27</cp:revision>
  <dc:subject/>
  <dc:title>Ten Point Five</dc:title>
</cp:coreProperties>
</file>