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C40-23DD-46A6-8A61-E8F0A3B4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662-90FF-4738-8DBF-DA84C5E2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105-1A7F-418D-BA36-8C791042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175-7C71-485E-AF0B-D6B93969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8A3-2990-45EF-A709-C1C8EC0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A91-EEE6-4014-83AA-CABDCDF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997-52B4-4A7B-89EB-53BF3251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800-3787-405B-891A-558F1B06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D23-AB73-4FD1-976D-411D04EC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650-9EE2-4393-906E-2888C9A6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47A-D882-46DA-8F2C-C4CD7AA8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810-843D-46AA-B91B-2BA45B2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2342-A0B8-427E-9A0F-8508E563D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ee Muskete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3600" y="5562720"/>
            <a:ext cx="319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 Wor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les for Three Muskete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105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player moves one of his pieces a tur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eteers move by capturing a nearby ene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nal’s men move to a nearby empty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nal wins if the Musketeers are in the same row or colum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eteers win if they cannot mo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248520" y="2666880"/>
            <a:ext cx="2280960" cy="2281320"/>
            <a:chOff x="6248520" y="2666880"/>
            <a:chExt cx="2280960" cy="2281320"/>
          </a:xfrm>
        </p:grpSpPr>
        <p:sp>
          <p:nvSpPr>
            <p:cNvPr id="46" name=""/>
            <p:cNvSpPr/>
            <p:nvPr/>
          </p:nvSpPr>
          <p:spPr>
            <a:xfrm>
              <a:off x="624852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464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076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1724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7336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4852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0464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16076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1724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7336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852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0464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076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724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7336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0464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6076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1724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7336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852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464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076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1724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7336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1800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7412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3024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6152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05400" y="4548960"/>
              <a:ext cx="342000" cy="34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1800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7412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3024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6152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0540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18000" y="3636360"/>
              <a:ext cx="342000" cy="34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7412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3024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6152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0540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1800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7412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3024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6152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0540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1800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7412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30240" y="2723760"/>
              <a:ext cx="342000" cy="34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6152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0540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40008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ing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are this game’s aesthetic virtu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other words, what aesthetic goals does this game actually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3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3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4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3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4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you come up with a single rules set that accommodates 2-4 play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llow-Up 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06:53:24Z</dcterms:created>
  <dc:creator>mleblanc</dc:creator>
  <dc:description/>
  <dc:language>en-US</dc:language>
  <cp:lastModifiedBy>Marc "MAHK" LeBlanc</cp:lastModifiedBy>
  <dcterms:modified xsi:type="dcterms:W3CDTF">2001-03-21T12:29:28Z</dcterms:modified>
  <cp:revision>2</cp:revision>
  <dc:subject/>
  <dc:title>Three Musketeers</dc:title>
</cp:coreProperties>
</file>