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7F1CD-FD6E-42C4-9C00-E6C8A2F49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3D250-5A0D-4F6F-96DA-90BA505B9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B69D0-484F-4427-9D29-52D4EBF63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62390-69ED-4010-9489-24FDEDABD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3E5F9-68BB-4F68-B076-DCFBF5159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52193-CF2E-47FD-8AFC-B3B7E3D29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D09D7-95A4-4109-9F9E-DEFD0EE9D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41953-3A32-478E-B58D-1360E7E53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A0DC8-9395-453E-9800-4F935659A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C07A8-3BB5-43E4-B165-DC1F88316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7567C-98D2-4C9A-89BB-97299FF57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DFAB-E6E6-48CC-A348-895B44628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9380-F684-4901-9B76-2828836CD8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Times New Roman"/>
              </a:rPr>
              <a:t>SiSSYFiGHT 2001</a:t>
            </a:r>
            <a:endParaRPr b="0" lang="en-US" sz="6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e Tuning Exercis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llow-up discussion</a:t>
            </a:r>
            <a:endParaRPr b="0" lang="en-US" sz="4400" spc="-1" strike="noStrike">
              <a:solidFill>
                <a:srgbClr val="ffff00"/>
              </a:solidFill>
              <a:latin typeface="Times New Roman"/>
            </a:endParaRPr>
          </a:p>
        </p:txBody>
      </p:sp>
      <p:sp>
        <p:nvSpPr>
          <p:cNvPr id="60"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view</a:t>
            </a:r>
            <a:endParaRPr b="0" lang="en-US" sz="4400" spc="-1" strike="noStrike">
              <a:solidFill>
                <a:srgbClr val="ffff00"/>
              </a:solidFill>
              <a:latin typeface="Times New Roman"/>
            </a:endParaRPr>
          </a:p>
        </p:txBody>
      </p:sp>
      <p:sp>
        <p:nvSpPr>
          <p:cNvPr id="44"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iSSYFiGHT simulates a schoolyard fight between little girls. Each girls begins with 10 Self Esteem points the and goal of the game is to reduce your opponents self-esteem to zero.  When there are only one or two players left with any self-esteem, they win the g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tup</a:t>
            </a:r>
            <a:endParaRPr b="0" lang="en-US" sz="4400" spc="-1" strike="noStrike">
              <a:solidFill>
                <a:srgbClr val="ffff00"/>
              </a:solidFill>
              <a:latin typeface="Times New Roman"/>
            </a:endParaRPr>
          </a:p>
        </p:txBody>
      </p:sp>
      <p:sp>
        <p:nvSpPr>
          <p:cNvPr id="46"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player is given a handful of index cards and a magic marker.</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layer writes his or her name on a number of index cards equal to the total number of players minus one.  Players should write in large and legible letters in the center of the index cards.  </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ree other cards, players write their three actions: “SOLO,” “TEAM,” and “DEF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tup</a:t>
            </a:r>
            <a:endParaRPr b="0" lang="en-US" sz="4400" spc="-1" strike="noStrike">
              <a:solidFill>
                <a:srgbClr val="ffff00"/>
              </a:solidFill>
              <a:latin typeface="Times New Roman"/>
            </a:endParaRPr>
          </a:p>
        </p:txBody>
      </p:sp>
      <p:sp>
        <p:nvSpPr>
          <p:cNvPr id="48"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yers pass out their name cards so that every other player receives one of their name cards.  At the end of this process, each player should have a name card for the other players.  Players will not have a name card for themselves.</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inal index card will be used for scoring.  Each player writes “10” at the top of this card and places it face up on the ta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les</a:t>
            </a:r>
            <a:endParaRPr b="0" lang="en-US" sz="4400" spc="-1" strike="noStrike">
              <a:solidFill>
                <a:srgbClr val="ffff00"/>
              </a:solidFill>
              <a:latin typeface="Times New Roman"/>
            </a:endParaRPr>
          </a:p>
        </p:txBody>
      </p:sp>
      <p:sp>
        <p:nvSpPr>
          <p:cNvPr id="50"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player begins with 10 points.</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turn, players choose one action and one name card as a target in secret.</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yers can communicate publicly through word and gesture only.  Players are not allowed to whisper, make gestures that are not visible to all other players, or to communicate through other means such as written notes or showing some of their car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les</a:t>
            </a:r>
            <a:endParaRPr b="0" lang="en-US" sz="4400" spc="-1" strike="noStrike">
              <a:solidFill>
                <a:srgbClr val="ffff00"/>
              </a:solidFill>
              <a:latin typeface="Times New Roman"/>
            </a:endParaRPr>
          </a:p>
        </p:txBody>
      </p:sp>
      <p:sp>
        <p:nvSpPr>
          <p:cNvPr id="52"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everyone has made up their mind, all of the players reveal their actions simultaneously and resolve the results (see the Actions section below).</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a player runs out of points, that player is out of the game.  </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t the end of a turn, only one or two players are left, those players w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a:t>
            </a:r>
            <a:endParaRPr b="0" lang="en-US" sz="4400" spc="-1" strike="noStrike">
              <a:solidFill>
                <a:srgbClr val="ffff00"/>
              </a:solidFill>
              <a:latin typeface="Times New Roman"/>
            </a:endParaRPr>
          </a:p>
        </p:txBody>
      </p:sp>
      <p:sp>
        <p:nvSpPr>
          <p:cNvPr id="54"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fontScale="99000"/>
          </a:bodyPr>
          <a:p>
            <a:pPr lvl="2" marL="1357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M </a:t>
            </a:r>
            <a:r>
              <a:rPr b="0" i="1" lang="en-US" sz="2000" spc="-1" strike="noStrike">
                <a:solidFill>
                  <a:srgbClr val="ffffff"/>
                </a:solidFill>
                <a:latin typeface="Times New Roman"/>
              </a:rPr>
              <a:t>(requires a target)</a:t>
            </a:r>
            <a:r>
              <a:rPr b="0" lang="en-US" sz="2000" spc="-1" strike="noStrike">
                <a:solidFill>
                  <a:srgbClr val="ffffff"/>
                </a:solidFill>
                <a:latin typeface="Times New Roman"/>
              </a:rPr>
              <a:t> - A team-up attack against a target.  If two or more players use this action against the same target, the target loses two points per successful attacker.</a:t>
            </a:r>
            <a:endParaRPr b="0" lang="en-US" sz="2000" spc="-1" strike="noStrike">
              <a:solidFill>
                <a:srgbClr val="ffffff"/>
              </a:solidFill>
              <a:latin typeface="Times New Roman"/>
            </a:endParaRPr>
          </a:p>
          <a:p>
            <a:pPr lvl="2" marL="1357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357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LO </a:t>
            </a:r>
            <a:r>
              <a:rPr b="0" i="1" lang="en-US" sz="2000" spc="-1" strike="noStrike">
                <a:solidFill>
                  <a:srgbClr val="ffffff"/>
                </a:solidFill>
                <a:latin typeface="Times New Roman"/>
              </a:rPr>
              <a:t>(requires a target)</a:t>
            </a:r>
            <a:r>
              <a:rPr b="0" lang="en-US" sz="2000" spc="-1" strike="noStrike">
                <a:solidFill>
                  <a:srgbClr val="ffffff"/>
                </a:solidFill>
                <a:latin typeface="Times New Roman"/>
              </a:rPr>
              <a:t> – A solo attack against the target.  Target loses one point.</a:t>
            </a:r>
            <a:endParaRPr b="0" lang="en-US" sz="2000" spc="-1" strike="noStrike">
              <a:solidFill>
                <a:srgbClr val="ffffff"/>
              </a:solidFill>
              <a:latin typeface="Times New Roman"/>
            </a:endParaRPr>
          </a:p>
          <a:p>
            <a:pPr lvl="2" marL="1357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357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FEND – This action does not require a target and is a general defensive action.  Any damage the player receives is halved, rounding down.  However, if a player that selected this action is not the target of a SOLO attack or the target of a TEAM attack from two or more players, the defending player loses one point.</a:t>
            </a:r>
            <a:endParaRPr b="0" lang="en-US" sz="2000" spc="-1" strike="noStrike">
              <a:solidFill>
                <a:srgbClr val="ffffff"/>
              </a:solidFill>
              <a:latin typeface="Times New Roman"/>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ervations</a:t>
            </a:r>
            <a:endParaRPr b="0" lang="en-US" sz="4400" spc="-1" strike="noStrike">
              <a:solidFill>
                <a:srgbClr val="ffff00"/>
              </a:solidFill>
              <a:latin typeface="Times New Roman"/>
            </a:endParaRPr>
          </a:p>
        </p:txBody>
      </p:sp>
      <p:sp>
        <p:nvSpPr>
          <p:cNvPr id="56"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58"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Take the fictional genre you selected in part 2.</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Adapt the game to your chosen setting.</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Where necessary, modify the actions, add a new action, or change other rules to better match your new setting.  Focus on the formal structure of the game rather than just on aspects of the game “content.”  For example, don’t just change the names of the action, but modify how they function in the game.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Your modifications should take the form of no more than three small changes to the rules or one significant chan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06:20:57Z</dcterms:created>
  <dc:creator>mleblanc</dc:creator>
  <dc:description/>
  <dc:language>en-US</dc:language>
  <cp:lastModifiedBy>ez</cp:lastModifiedBy>
  <dcterms:modified xsi:type="dcterms:W3CDTF">2001-03-19T23:51:18Z</dcterms:modified>
  <cp:revision>53</cp:revision>
  <dc:subject/>
  <dc:title>Ten Point Five</dc:title>
</cp:coreProperties>
</file>