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B5F-23C5-492C-B9C8-C0843502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4E6-EEFB-4CEE-90B1-646CBEBD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092-F7E3-4CB5-9F6E-DAC85338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CD8-D35C-4A4A-8F17-75DC7BFC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49C-5F7F-4790-B060-CE42432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A5C-5DA6-4A77-B27A-2012DEF3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F4D-32CA-45F2-88DF-5268EA7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1F9-4BDF-4F3C-951C-5F69DCE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7C5-196E-4F2D-8CBE-33F4F83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E49-7460-43E0-AA1F-63704E8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BA3-5806-44D2-8A03-34EB0E8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343-29A8-4D7E-A384-83ADB07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0D6-30FC-4A4C-AB49-5DE3C205D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Tower Checker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ken Game Tu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al: Compet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me is competitive i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yers are adversaries  (i.e. victory is mutual exclus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s have an ongoing emotional investment in winning to the exclusion of other p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yers think they can’t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s can’t assess who is winn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al: Origin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original game is reasonably distinct from games that have gone before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se of Tower Checkers, it should in particular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nct from Checkers, e.g., by virtue of emplo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erogeneous units, resource managemen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ategy for “stack growing” is degenerate; the player who always grows his tallest stack always beats the player who divides his “grow” moves among different stac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: How is the presence of a degenerate strategy at odds with our goals: challenge, competition, original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rules so that other strategies are vi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 Playtest your modified Tower Checkers.  (You may want to try several variants in paralle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aesthetic goals influence your process or your resul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exercise apply to digital ga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check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jump each other just as in normal checkers, but a jumped stack is capture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jumping stack is of the same height or tall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jump each other just as in normal checkers, but a jumped stack is capture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jumping stack is of the same height or tall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can become “kings” just like in normal checkers.  Use coins or tokens to mark stacks that have been “kinged.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al: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llenging game provides the player wit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fficul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tab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.  Players are rewarded for success; more difficult challenges yield greater rewar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re trivial, or too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wards don’t match difficul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2:00:03Z</dcterms:modified>
  <cp:revision>40</cp:revision>
  <dc:subject/>
  <dc:title>Ten Point Five</dc:title>
</cp:coreProperties>
</file>