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489-0615-4578-B649-F8C903CA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881-FE7A-40D0-8105-7C525D05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01A-A54C-439D-A7F2-55B4CCEF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CA0-01BD-418B-816B-3BAEF40D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78F-F06D-4315-8B4B-7A787404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2FD-E7FD-4B67-87D7-30384509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684-32A4-4A41-96CB-FA4B505B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32C-3F33-459C-8265-EBB10DFA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FF5-147E-4B68-8414-2BA31848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244-DDD5-4C42-98C7-A3A996ED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F32-CA2B-4DB2-80E2-AC36B484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8B5-80ED-4672-BD3B-1BA5BD22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4D98-901C-431B-BECF-D17A8E243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Ten Point Fiv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DC’s hottest new game sh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wenty-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unched by NBC in September, 195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a few episodes, the producers decided to rig the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ings soa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1958, Twenty-One became the center of the quiz show scand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fact, the first show o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enty-On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 not rigged and the first show of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enty-On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mal failure. It was just plain dull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iel Enright, Produ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was the show such a “dismal failure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es designing for television affect our aesthetic goals?  What are the aesthetic goals o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enty-O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the graph of a contestant's score as a function of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 we expect that graph to look lik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 we want it to look lik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divide into grou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ducers of Ten Point Five have hired you to suggest ways of making the game “more exciting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 up with a way to add drama to the game without rigging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You are not responsible for developing the quiz questions, though you may send special instructions and guidelines to the question developers.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score points by answering ques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score points by answering ques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player knows the other player’s sc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score points by answering ques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player knows the other player’s sc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each question, choose how many points to wager.  Up to 5.5 points may be wage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score points by answering ques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player knows the other player’s sc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each question, choose how many points to wager.  Up to 5.5 points may be wage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 right: You get the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score points by answering ques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player knows the other player’s sc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each question, choose how many points to wager.  Up to 5.5 points may be wage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 right: You get the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 wrong: You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score points by answering ques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player knows the other player’s sc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each question, choose how many points to wager.  Up to 5.5 points may be wage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 right: You get the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 wrong: You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to 10.5 points first, and you wi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score points by answering ques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player knows the other player’s sc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each question, choose how many points to wager.  Up to 5.5 points may be wage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 right: You get the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 wrong: You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to 10.5 points first, and you wi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the end of a round, either player may choose to end the game.  Most points wi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servation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6:20:57Z</dcterms:created>
  <dc:creator>mleblanc</dc:creator>
  <dc:description/>
  <dc:language>en-US</dc:language>
  <cp:lastModifiedBy>Marc "MAHK" LeBlanc</cp:lastModifiedBy>
  <dcterms:modified xsi:type="dcterms:W3CDTF">2001-03-20T09:33:16Z</dcterms:modified>
  <cp:revision>4</cp:revision>
  <dc:subject/>
  <dc:title>Ten Point Five</dc:title>
</cp:coreProperties>
</file>