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8FA1-8043-400D-8F25-4B704B18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8FC-705D-4831-9A0E-9D7B5C2F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26D-46F1-43FE-8E54-4701CCF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294-D07E-4FC8-B792-9CE8BEF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2EA-21B6-4272-A604-31C503C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0DD-263B-4042-86E2-79CC20E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10D-F0B9-4E66-80EB-D0A7A9A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059-5198-4625-BDF7-1FB114B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7D1-7227-43D6-8184-F0988D39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27D-3359-4EBE-B477-A85B4AB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F7C-5E7F-4790-B964-F2E129A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4C0-452C-4CEC-8C04-6BE3562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547-3E92-4EDC-9860-8680063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79B-5DBA-44F1-82EC-7C6F524C7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Boy Meets Zombi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Shooter As Journey into The P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oe must fight a succession of zombies, each representing part of JB’s past, i.e. former friends, teachers, etc.  Perhaps cut-scenes show flashbacks of his lif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s deepens our sense of his character, of a small-town life.  It becomes a biography of Joe, told in shooter form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n the other hand, not much of interest happens in the present – it’s all memor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perhaps ultimately it is Joe daydreaming in his cell, going over the past.  The game becomes about memory, past relationships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oter in Dynam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e encounters 3 kinds of zombie, all of which hate each oth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Satanic cults are battling for the town.  A crude world-status-monitor actually tracks the fortunes of each cult, and repopulates the town according to who’s doing wel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e can learn the goal of each one, and aid it by destroying its enemies and achieving its goal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a given cult likes Joe enough, it will help him rescue Jane; all the other cults will hate him 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onally, Joe can actually join a cult, and gain black magic power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Joe can just kill everybody he sees, although this is ha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rtsy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e fights through a set of levels progressing from early autumn to late spring – symbolic of Joe’s weariness and gradual sense that he can begin new life after pris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ue and artsy, but computer games are good at projecting season and mood rather than elaborate story, so that’s the win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u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formulate any story-related aesthetic models from our experience 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cover the possibilities, or barely scratch the surface, or somewhere in betw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the design team for a game called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e Black Is B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first-person shooter with a simpl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ning Cut-Sc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leaving pr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gets off bus in Smallville (“duh…where’s Jane?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sees zombies (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gets mad (“grrr…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GAME BEGIN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ing Cut-Sc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pile of dead zomb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hugs Jane (“Oh Joe!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was in prison for a crime he didn’t 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he was away, Satanic cultists took over Smallvil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kidnapped Jane, his girlfri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becomes their zombie slav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r 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More Story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richer/deeper/better story to this first-person shoo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up with a description of the story and specifics of how it is implemented in the game and conveyed to the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about the tools availab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 geometry and textures – this is probably the most vivid and intuitive tool, so use i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back of vi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back of audio +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laying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ripted npc m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ps/triggers: Collecting data about in-game events, using these to alter game parameter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rsation interfaces – menu, keyword, &amp;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oters with Story, recent 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us 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 Shock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One Lives For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erican McGee’s A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3:15:19Z</dcterms:modified>
  <cp:revision>51</cp:revision>
  <dc:subject/>
  <dc:title>Ten Point Five</dc:title>
</cp:coreProperties>
</file>